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11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3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0CB7-F08A-42EC-81BC-1572C097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EB5C-A34A-45F6-9BC6-ED670115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2760-C2A0-44C0-A989-D46F2FE0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30FE-CD5E-4072-836B-E2F65AC2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EDD4-1C73-42BA-AEEB-A03CD70C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172C-616D-4C6D-BAAF-EBFB8EFC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462A-105B-4D0B-A123-944FFD83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40F5-E991-467E-8371-C6A27C11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94E5-4A5D-4E8A-ACE2-A7191E05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ACF-80B4-40EE-930F-5383EF05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3780-DAFD-49FE-950F-3D18F15B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C8A8-7957-4ECC-8F45-3E1ECA03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BB88-5F96-4746-82AC-32DEAC4BF4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3.jpeg"/><Relationship Id="rId6" Type="http://schemas.openxmlformats.org/officeDocument/2006/relationships/image" Target="../media/image27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2.png"/><Relationship Id="rId6" Type="http://schemas.openxmlformats.org/officeDocument/2006/relationships/image" Target="../media/image35.png"/><Relationship Id="rId7" Type="http://schemas.openxmlformats.org/officeDocument/2006/relationships/image" Target="../media/image31.jpe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jpeg"/><Relationship Id="rId11" Type="http://schemas.openxmlformats.org/officeDocument/2006/relationships/image" Target="../media/image32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39480" y="189000"/>
            <a:ext cx="8274600" cy="576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ТЕТРАД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для_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____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учени_______класса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__________    школы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______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______________________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______________________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2"/>
          <p:cNvSpPr/>
          <p:nvPr/>
        </p:nvSpPr>
        <p:spPr>
          <a:xfrm>
            <a:off x="179280" y="189000"/>
            <a:ext cx="3097440" cy="198108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для  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о   окружающему    ми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чен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______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4  класса  «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ГБОУ  школ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№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179280" y="2492280"/>
            <a:ext cx="309744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для  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о   окружающему    ми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чен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______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4  класса  «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ГБОУ  школ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№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179280" y="4724280"/>
            <a:ext cx="309744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для  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о   окружающему    ми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чен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______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4  класса  «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ГБОУ  школ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№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"/>
          <p:cNvSpPr/>
          <p:nvPr/>
        </p:nvSpPr>
        <p:spPr>
          <a:xfrm>
            <a:off x="3419640" y="189000"/>
            <a:ext cx="3097080" cy="198108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для  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о   окружающему    ми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чен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______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4  класса  «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ГБОУ  школ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№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3419640" y="2492280"/>
            <a:ext cx="30970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для  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о   окружающему    ми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чен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______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4  класса  «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ГБОУ  школ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№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3419640" y="4653000"/>
            <a:ext cx="30970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для  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о   окружающему    ми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чен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______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4  класса  «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ГБОУ  школ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№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"/>
          <p:cNvSpPr/>
          <p:nvPr/>
        </p:nvSpPr>
        <p:spPr>
          <a:xfrm rot="16200000">
            <a:off x="6319800" y="745920"/>
            <a:ext cx="309564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для  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о   окружающему    ми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чен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______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4  класса  «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ГБОУ  школ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№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"/>
          <p:cNvSpPr/>
          <p:nvPr/>
        </p:nvSpPr>
        <p:spPr>
          <a:xfrm rot="16200000">
            <a:off x="6317640" y="3986640"/>
            <a:ext cx="30970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для  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о   окружающему    ми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чен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______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4  класса  «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ГБОУ  школ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№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Группа 8"/>
          <p:cNvGrpSpPr/>
          <p:nvPr/>
        </p:nvGrpSpPr>
        <p:grpSpPr>
          <a:xfrm>
            <a:off x="0" y="260280"/>
            <a:ext cx="4608360" cy="5256360"/>
            <a:chOff x="0" y="260280"/>
            <a:chExt cx="4608360" cy="5256360"/>
          </a:xfrm>
        </p:grpSpPr>
        <p:grpSp>
          <p:nvGrpSpPr>
            <p:cNvPr id="217" name="Группа 6"/>
            <p:cNvGrpSpPr/>
            <p:nvPr/>
          </p:nvGrpSpPr>
          <p:grpSpPr>
            <a:xfrm>
              <a:off x="287640" y="260280"/>
              <a:ext cx="4096440" cy="2448000"/>
              <a:chOff x="287640" y="260280"/>
              <a:chExt cx="4096440" cy="2448000"/>
            </a:xfrm>
          </p:grpSpPr>
          <p:pic>
            <p:nvPicPr>
              <p:cNvPr id="218" name="Picture 3" descr="D:\клипарты\рамки\чёрно-белык\74517012_large_quadrosgif.jpg"/>
              <p:cNvPicPr/>
              <p:nvPr/>
            </p:nvPicPr>
            <p:blipFill>
              <a:blip r:embed="rId1"/>
              <a:stretch/>
            </p:blipFill>
            <p:spPr>
              <a:xfrm rot="5400000">
                <a:off x="1111680" y="-563760"/>
                <a:ext cx="2448000" cy="409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TextBox 1"/>
              <p:cNvSpPr/>
              <p:nvPr/>
            </p:nvSpPr>
            <p:spPr>
              <a:xfrm>
                <a:off x="504000" y="404280"/>
                <a:ext cx="367236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Тетрад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для  рабо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 русскому язык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чени___       класса 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________ школы №  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Группа 7"/>
            <p:cNvGrpSpPr/>
            <p:nvPr/>
          </p:nvGrpSpPr>
          <p:grpSpPr>
            <a:xfrm>
              <a:off x="0" y="2924640"/>
              <a:ext cx="4608360" cy="2592000"/>
              <a:chOff x="0" y="2924640"/>
              <a:chExt cx="4608360" cy="2592000"/>
            </a:xfrm>
          </p:grpSpPr>
          <p:pic>
            <p:nvPicPr>
              <p:cNvPr id="221" name="Picture 4" descr="D:\фоны и шаблоны\черно белые\ram127.png"/>
              <p:cNvPicPr/>
              <p:nvPr/>
            </p:nvPicPr>
            <p:blipFill>
              <a:blip r:embed="rId2"/>
              <a:srcRect l="0" t="48480" r="51405" b="4356"/>
              <a:stretch/>
            </p:blipFill>
            <p:spPr>
              <a:xfrm>
                <a:off x="0" y="2924640"/>
                <a:ext cx="4608360" cy="25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TextBox 4"/>
              <p:cNvSpPr/>
              <p:nvPr/>
            </p:nvSpPr>
            <p:spPr>
              <a:xfrm>
                <a:off x="504000" y="3068640"/>
                <a:ext cx="367236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Тетрад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для  рабо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 математик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чени___       класса 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________ школы №  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Группа 12"/>
          <p:cNvGrpSpPr/>
          <p:nvPr/>
        </p:nvGrpSpPr>
        <p:grpSpPr>
          <a:xfrm>
            <a:off x="5003280" y="0"/>
            <a:ext cx="3961080" cy="6170760"/>
            <a:chOff x="5003280" y="0"/>
            <a:chExt cx="3961080" cy="6170760"/>
          </a:xfrm>
        </p:grpSpPr>
        <p:pic>
          <p:nvPicPr>
            <p:cNvPr id="224" name="Picture 2" descr="D:\клипарты\рамки\чёрно-белык\74516955_large_006.jpg"/>
            <p:cNvPicPr/>
            <p:nvPr/>
          </p:nvPicPr>
          <p:blipFill>
            <a:blip r:embed="rId3"/>
            <a:stretch/>
          </p:blipFill>
          <p:spPr>
            <a:xfrm rot="5400000">
              <a:off x="5374440" y="-371160"/>
              <a:ext cx="3218400" cy="39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9"/>
            <p:cNvSpPr/>
            <p:nvPr/>
          </p:nvSpPr>
          <p:spPr>
            <a:xfrm>
              <a:off x="5149440" y="625680"/>
              <a:ext cx="36730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Тетрад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для контрольных  рабо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по математи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учени___     4  класса  «А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ГБОУ школы №  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____________________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____________________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Picture 3" descr="D:\клипарты\рамки\чёрно-белык\74516972_large_031.jpg"/>
            <p:cNvPicPr/>
            <p:nvPr/>
          </p:nvPicPr>
          <p:blipFill>
            <a:blip r:embed="rId4"/>
            <a:stretch/>
          </p:blipFill>
          <p:spPr>
            <a:xfrm rot="5400000">
              <a:off x="5573160" y="2793960"/>
              <a:ext cx="2880360" cy="387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Box 10"/>
            <p:cNvSpPr/>
            <p:nvPr/>
          </p:nvSpPr>
          <p:spPr>
            <a:xfrm>
              <a:off x="5221440" y="3722400"/>
              <a:ext cx="36730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Тетрад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для контрольных   рабо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по  русскому язы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учени___      4 класса  «А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ГБОУ  школы №  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____________________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____________________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Прямоугольник 13"/>
          <p:cNvSpPr/>
          <p:nvPr/>
        </p:nvSpPr>
        <p:spPr>
          <a:xfrm>
            <a:off x="3363120" y="64882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vk.com/shkola_a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Группа 7"/>
          <p:cNvGrpSpPr/>
          <p:nvPr/>
        </p:nvGrpSpPr>
        <p:grpSpPr>
          <a:xfrm>
            <a:off x="0" y="189000"/>
            <a:ext cx="4608360" cy="5184720"/>
            <a:chOff x="0" y="189000"/>
            <a:chExt cx="4608360" cy="5184720"/>
          </a:xfrm>
        </p:grpSpPr>
        <p:grpSp>
          <p:nvGrpSpPr>
            <p:cNvPr id="230" name="Группа 5"/>
            <p:cNvGrpSpPr/>
            <p:nvPr/>
          </p:nvGrpSpPr>
          <p:grpSpPr>
            <a:xfrm>
              <a:off x="394920" y="189000"/>
              <a:ext cx="4096440" cy="2448360"/>
              <a:chOff x="394920" y="189000"/>
              <a:chExt cx="4096440" cy="2448360"/>
            </a:xfrm>
          </p:grpSpPr>
          <p:pic>
            <p:nvPicPr>
              <p:cNvPr id="231" name="Picture 3" descr="D:\клипарты\рамки\чёрно-белык\74517012_large_quadrosgif.jpg"/>
              <p:cNvPicPr/>
              <p:nvPr/>
            </p:nvPicPr>
            <p:blipFill>
              <a:blip r:embed="rId1"/>
              <a:stretch/>
            </p:blipFill>
            <p:spPr>
              <a:xfrm rot="5400000">
                <a:off x="1218960" y="-635040"/>
                <a:ext cx="2448360" cy="409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TextBox 1"/>
              <p:cNvSpPr/>
              <p:nvPr/>
            </p:nvSpPr>
            <p:spPr>
              <a:xfrm>
                <a:off x="611280" y="333000"/>
                <a:ext cx="367236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Тетрад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для  рабо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по русскому язык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учени___     4  класса  «А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ГБОУ школы №  6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Группа 6"/>
            <p:cNvGrpSpPr/>
            <p:nvPr/>
          </p:nvGrpSpPr>
          <p:grpSpPr>
            <a:xfrm>
              <a:off x="0" y="2781360"/>
              <a:ext cx="4608360" cy="2592360"/>
              <a:chOff x="0" y="2781360"/>
              <a:chExt cx="4608360" cy="2592360"/>
            </a:xfrm>
          </p:grpSpPr>
          <p:pic>
            <p:nvPicPr>
              <p:cNvPr id="234" name="Picture 4" descr="D:\фоны и шаблоны\черно белые\ram127.png"/>
              <p:cNvPicPr/>
              <p:nvPr/>
            </p:nvPicPr>
            <p:blipFill>
              <a:blip r:embed="rId2"/>
              <a:srcRect l="0" t="48480" r="51405" b="4356"/>
              <a:stretch/>
            </p:blipFill>
            <p:spPr>
              <a:xfrm>
                <a:off x="0" y="2781360"/>
                <a:ext cx="4608360" cy="259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TextBox 4"/>
              <p:cNvSpPr/>
              <p:nvPr/>
            </p:nvSpPr>
            <p:spPr>
              <a:xfrm>
                <a:off x="576000" y="2997360"/>
                <a:ext cx="367236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Тетрад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для  рабо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по математик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учени___    4  класса «А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ГБОУ школы №  6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Группа 8"/>
          <p:cNvGrpSpPr/>
          <p:nvPr/>
        </p:nvGrpSpPr>
        <p:grpSpPr>
          <a:xfrm>
            <a:off x="4535640" y="189000"/>
            <a:ext cx="4608360" cy="5184720"/>
            <a:chOff x="4535640" y="189000"/>
            <a:chExt cx="4608360" cy="5184720"/>
          </a:xfrm>
        </p:grpSpPr>
        <p:grpSp>
          <p:nvGrpSpPr>
            <p:cNvPr id="237" name="Группа 5"/>
            <p:cNvGrpSpPr/>
            <p:nvPr/>
          </p:nvGrpSpPr>
          <p:grpSpPr>
            <a:xfrm>
              <a:off x="4930560" y="189000"/>
              <a:ext cx="4096440" cy="2448360"/>
              <a:chOff x="4930560" y="189000"/>
              <a:chExt cx="4096440" cy="2448360"/>
            </a:xfrm>
          </p:grpSpPr>
          <p:pic>
            <p:nvPicPr>
              <p:cNvPr id="238" name="Picture 3" descr="D:\клипарты\рамки\чёрно-белык\74517012_large_quadrosgif.jpg"/>
              <p:cNvPicPr/>
              <p:nvPr/>
            </p:nvPicPr>
            <p:blipFill>
              <a:blip r:embed="rId3"/>
              <a:stretch/>
            </p:blipFill>
            <p:spPr>
              <a:xfrm rot="5400000">
                <a:off x="5754600" y="-635040"/>
                <a:ext cx="2448360" cy="409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TextBox 14"/>
              <p:cNvSpPr/>
              <p:nvPr/>
            </p:nvSpPr>
            <p:spPr>
              <a:xfrm>
                <a:off x="5146920" y="333000"/>
                <a:ext cx="367236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Тетрад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для  рабо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по русскому язык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учени___     4  класса  «А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ГБОУ школы №  6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Группа 6"/>
            <p:cNvGrpSpPr/>
            <p:nvPr/>
          </p:nvGrpSpPr>
          <p:grpSpPr>
            <a:xfrm>
              <a:off x="4535640" y="2781360"/>
              <a:ext cx="4608360" cy="2592360"/>
              <a:chOff x="4535640" y="2781360"/>
              <a:chExt cx="4608360" cy="2592360"/>
            </a:xfrm>
          </p:grpSpPr>
          <p:pic>
            <p:nvPicPr>
              <p:cNvPr id="241" name="Picture 4" descr="D:\фоны и шаблоны\черно белые\ram127.png"/>
              <p:cNvPicPr/>
              <p:nvPr/>
            </p:nvPicPr>
            <p:blipFill>
              <a:blip r:embed="rId4"/>
              <a:srcRect l="0" t="48480" r="51405" b="4356"/>
              <a:stretch/>
            </p:blipFill>
            <p:spPr>
              <a:xfrm>
                <a:off x="4535640" y="2781360"/>
                <a:ext cx="4608360" cy="259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TextBox 12"/>
              <p:cNvSpPr/>
              <p:nvPr/>
            </p:nvSpPr>
            <p:spPr>
              <a:xfrm>
                <a:off x="5111640" y="2997360"/>
                <a:ext cx="367236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Тетрад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для  рабо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по математик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учени___    4  класса «А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ГБОУ школы №  6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Прямоугольник 15"/>
          <p:cNvSpPr/>
          <p:nvPr/>
        </p:nvSpPr>
        <p:spPr>
          <a:xfrm>
            <a:off x="3363120" y="64882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vk.com/shkola_a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D:\фоны и шаблоны\черно белые\ram127.png"/>
          <p:cNvPicPr/>
          <p:nvPr/>
        </p:nvPicPr>
        <p:blipFill>
          <a:blip r:embed="rId1"/>
          <a:srcRect l="0" t="48480" r="51405" b="4356"/>
          <a:stretch/>
        </p:blipFill>
        <p:spPr>
          <a:xfrm>
            <a:off x="0" y="3108240"/>
            <a:ext cx="4500720" cy="2841840"/>
          </a:xfrm>
          <a:prstGeom prst="rect">
            <a:avLst/>
          </a:prstGeom>
          <a:ln w="0">
            <a:noFill/>
          </a:ln>
        </p:spPr>
      </p:pic>
      <p:grpSp>
        <p:nvGrpSpPr>
          <p:cNvPr id="245" name="Группа 5"/>
          <p:cNvGrpSpPr/>
          <p:nvPr/>
        </p:nvGrpSpPr>
        <p:grpSpPr>
          <a:xfrm>
            <a:off x="216000" y="189000"/>
            <a:ext cx="4140000" cy="2398680"/>
            <a:chOff x="216000" y="189000"/>
            <a:chExt cx="4140000" cy="2398680"/>
          </a:xfrm>
        </p:grpSpPr>
        <p:pic>
          <p:nvPicPr>
            <p:cNvPr id="246" name="Picture 3" descr="D:\клипарты\рамки\чёрно-белык\74517012_large_quadrosgif.jpg"/>
            <p:cNvPicPr/>
            <p:nvPr/>
          </p:nvPicPr>
          <p:blipFill>
            <a:blip r:embed="rId2"/>
            <a:stretch/>
          </p:blipFill>
          <p:spPr>
            <a:xfrm rot="5400000">
              <a:off x="1086480" y="-681480"/>
              <a:ext cx="2398680" cy="41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Box 1"/>
            <p:cNvSpPr/>
            <p:nvPr/>
          </p:nvSpPr>
          <p:spPr>
            <a:xfrm>
              <a:off x="445320" y="336960"/>
              <a:ext cx="38988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Тетрад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для  рабо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по литературному чтен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учени___ 4   класса  «Б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ГБОУ школы №  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____________________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____________________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Box 4"/>
          <p:cNvSpPr/>
          <p:nvPr/>
        </p:nvSpPr>
        <p:spPr>
          <a:xfrm>
            <a:off x="250920" y="3429000"/>
            <a:ext cx="3556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етр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ля   раб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 литературному чт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ени__  4 класса 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БОУ  школы № 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http://www.clipartfinders.com/clipart/628/book-of-shadows-bos-blank-page-ideas-witchy--628364.jpg"/>
          <p:cNvPicPr/>
          <p:nvPr/>
        </p:nvPicPr>
        <p:blipFill>
          <a:blip r:embed="rId3"/>
          <a:stretch/>
        </p:blipFill>
        <p:spPr>
          <a:xfrm>
            <a:off x="395280" y="333360"/>
            <a:ext cx="1433520" cy="2138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ttp://images.clipartbro.com/317/tattoo-triball-flock-of-birds-sketch-design-317811.png"/>
          <p:cNvPicPr/>
          <p:nvPr/>
        </p:nvPicPr>
        <p:blipFill>
          <a:blip r:embed="rId4"/>
          <a:stretch/>
        </p:blipFill>
        <p:spPr>
          <a:xfrm>
            <a:off x="2843280" y="3357720"/>
            <a:ext cx="1182600" cy="709560"/>
          </a:xfrm>
          <a:prstGeom prst="rect">
            <a:avLst/>
          </a:prstGeom>
          <a:ln w="0">
            <a:noFill/>
          </a:ln>
        </p:spPr>
      </p:pic>
      <p:grpSp>
        <p:nvGrpSpPr>
          <p:cNvPr id="251" name="Группа 10"/>
          <p:cNvGrpSpPr/>
          <p:nvPr/>
        </p:nvGrpSpPr>
        <p:grpSpPr>
          <a:xfrm>
            <a:off x="4716000" y="189000"/>
            <a:ext cx="4140360" cy="2398680"/>
            <a:chOff x="4716000" y="189000"/>
            <a:chExt cx="4140360" cy="2398680"/>
          </a:xfrm>
        </p:grpSpPr>
        <p:pic>
          <p:nvPicPr>
            <p:cNvPr id="252" name="Picture 3" descr="D:\клипарты\рамки\чёрно-белык\74517012_large_quadrosgif.jpg"/>
            <p:cNvPicPr/>
            <p:nvPr/>
          </p:nvPicPr>
          <p:blipFill>
            <a:blip r:embed="rId5"/>
            <a:stretch/>
          </p:blipFill>
          <p:spPr>
            <a:xfrm rot="5400000">
              <a:off x="5586840" y="-681840"/>
              <a:ext cx="2398680" cy="41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Box 12"/>
            <p:cNvSpPr/>
            <p:nvPr/>
          </p:nvSpPr>
          <p:spPr>
            <a:xfrm>
              <a:off x="4945680" y="336960"/>
              <a:ext cx="389916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Тетрад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для  рабо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по литературному чтен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учени___ 4   класса  «Б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ГБОУ школы №  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____________________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____________________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Picture 2" descr="http://www.clipartfinders.com/clipart/628/book-of-shadows-bos-blank-page-ideas-witchy--628364.jpg"/>
          <p:cNvPicPr/>
          <p:nvPr/>
        </p:nvPicPr>
        <p:blipFill>
          <a:blip r:embed="rId6"/>
          <a:stretch/>
        </p:blipFill>
        <p:spPr>
          <a:xfrm>
            <a:off x="4896000" y="333360"/>
            <a:ext cx="1433520" cy="2138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D:\фоны и шаблоны\черно белые\ram127.png"/>
          <p:cNvPicPr/>
          <p:nvPr/>
        </p:nvPicPr>
        <p:blipFill>
          <a:blip r:embed="rId7"/>
          <a:srcRect l="0" t="48480" r="51405" b="4356"/>
          <a:stretch/>
        </p:blipFill>
        <p:spPr>
          <a:xfrm>
            <a:off x="4500720" y="3068640"/>
            <a:ext cx="4498920" cy="284148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5"/>
          <p:cNvSpPr/>
          <p:nvPr/>
        </p:nvSpPr>
        <p:spPr>
          <a:xfrm>
            <a:off x="5076720" y="3429000"/>
            <a:ext cx="355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етр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ля   раб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 литературному чт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ени__  4  класса 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БОУ  школы № 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6"/>
          <p:cNvSpPr/>
          <p:nvPr/>
        </p:nvSpPr>
        <p:spPr>
          <a:xfrm>
            <a:off x="3363120" y="64882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vk.com/shkola_a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Группа 7"/>
          <p:cNvGrpSpPr/>
          <p:nvPr/>
        </p:nvGrpSpPr>
        <p:grpSpPr>
          <a:xfrm>
            <a:off x="108000" y="115920"/>
            <a:ext cx="4464000" cy="5616720"/>
            <a:chOff x="108000" y="115920"/>
            <a:chExt cx="4464000" cy="5616720"/>
          </a:xfrm>
        </p:grpSpPr>
        <p:sp>
          <p:nvSpPr>
            <p:cNvPr id="259" name="Скругленный прямоугольник 4"/>
            <p:cNvSpPr/>
            <p:nvPr/>
          </p:nvSpPr>
          <p:spPr>
            <a:xfrm>
              <a:off x="108000" y="2852280"/>
              <a:ext cx="4392000" cy="288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Picture 4" descr="http://www.newdesignfile.com/postpic/2010/01/black-and-white-flower-border-clip-art_10812.jpeg"/>
            <p:cNvPicPr/>
            <p:nvPr/>
          </p:nvPicPr>
          <p:blipFill>
            <a:blip r:embed="rId1"/>
            <a:stretch/>
          </p:blipFill>
          <p:spPr>
            <a:xfrm>
              <a:off x="123120" y="115920"/>
              <a:ext cx="4448880" cy="244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" descr="http://www.clipartkid.com/images/363/cattail-clipart-XoA1oO-clipart.jpg"/>
            <p:cNvPicPr/>
            <p:nvPr/>
          </p:nvPicPr>
          <p:blipFill>
            <a:blip r:embed="rId2"/>
            <a:stretch/>
          </p:blipFill>
          <p:spPr>
            <a:xfrm>
              <a:off x="180000" y="2780280"/>
              <a:ext cx="4280760" cy="285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Box 5"/>
            <p:cNvSpPr/>
            <p:nvPr/>
          </p:nvSpPr>
          <p:spPr>
            <a:xfrm>
              <a:off x="1188000" y="3212280"/>
              <a:ext cx="29221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Тетрад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для рабо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по окружающему  мир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учени __  4 класса « Б 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ГБОУ школы  № 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6"/>
            <p:cNvSpPr/>
            <p:nvPr/>
          </p:nvSpPr>
          <p:spPr>
            <a:xfrm>
              <a:off x="756000" y="259920"/>
              <a:ext cx="314028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Тетрад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для рабо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по окружающему мир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учени__ 2 класса «А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ГБОУ школы № 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Группа 8"/>
          <p:cNvGrpSpPr/>
          <p:nvPr/>
        </p:nvGrpSpPr>
        <p:grpSpPr>
          <a:xfrm>
            <a:off x="4680000" y="115920"/>
            <a:ext cx="4464000" cy="5616720"/>
            <a:chOff x="4680000" y="115920"/>
            <a:chExt cx="4464000" cy="5616720"/>
          </a:xfrm>
        </p:grpSpPr>
        <p:sp>
          <p:nvSpPr>
            <p:cNvPr id="265" name="Скругленный прямоугольник 9"/>
            <p:cNvSpPr/>
            <p:nvPr/>
          </p:nvSpPr>
          <p:spPr>
            <a:xfrm>
              <a:off x="4680000" y="2852280"/>
              <a:ext cx="4392000" cy="288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Picture 4" descr="http://www.newdesignfile.com/postpic/2010/01/black-and-white-flower-border-clip-art_10812.jpeg"/>
            <p:cNvPicPr/>
            <p:nvPr/>
          </p:nvPicPr>
          <p:blipFill>
            <a:blip r:embed="rId3"/>
            <a:stretch/>
          </p:blipFill>
          <p:spPr>
            <a:xfrm>
              <a:off x="4695120" y="115920"/>
              <a:ext cx="4448880" cy="244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6" descr="http://www.clipartkid.com/images/363/cattail-clipart-XoA1oO-clipart.jpg"/>
            <p:cNvPicPr/>
            <p:nvPr/>
          </p:nvPicPr>
          <p:blipFill>
            <a:blip r:embed="rId4"/>
            <a:stretch/>
          </p:blipFill>
          <p:spPr>
            <a:xfrm>
              <a:off x="4752000" y="2780280"/>
              <a:ext cx="4280760" cy="285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Box 12"/>
            <p:cNvSpPr/>
            <p:nvPr/>
          </p:nvSpPr>
          <p:spPr>
            <a:xfrm>
              <a:off x="5760000" y="3212280"/>
              <a:ext cx="29221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Тетрад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для рабо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по окружающему  мир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учени __  4 класса « Б 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ГБОУ школы  № 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13"/>
            <p:cNvSpPr/>
            <p:nvPr/>
          </p:nvSpPr>
          <p:spPr>
            <a:xfrm>
              <a:off x="5328000" y="259920"/>
              <a:ext cx="314028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Тетрад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для рабо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по окружающему мир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учени__ 2 класса «А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ГБОУ школы № 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Прямоугольник 14"/>
          <p:cNvSpPr/>
          <p:nvPr/>
        </p:nvSpPr>
        <p:spPr>
          <a:xfrm>
            <a:off x="3363120" y="64882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vk.com/shkola_a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Группа 1"/>
          <p:cNvGrpSpPr/>
          <p:nvPr/>
        </p:nvGrpSpPr>
        <p:grpSpPr>
          <a:xfrm>
            <a:off x="179280" y="189000"/>
            <a:ext cx="4176720" cy="3671280"/>
            <a:chOff x="179280" y="189000"/>
            <a:chExt cx="4176720" cy="3671280"/>
          </a:xfrm>
        </p:grpSpPr>
        <p:grpSp>
          <p:nvGrpSpPr>
            <p:cNvPr id="272" name="Группа 15"/>
            <p:cNvGrpSpPr/>
            <p:nvPr/>
          </p:nvGrpSpPr>
          <p:grpSpPr>
            <a:xfrm>
              <a:off x="179280" y="2204640"/>
              <a:ext cx="4176720" cy="1655640"/>
              <a:chOff x="179280" y="2204640"/>
              <a:chExt cx="4176720" cy="1655640"/>
            </a:xfrm>
          </p:grpSpPr>
          <p:sp>
            <p:nvSpPr>
              <p:cNvPr id="273" name="Скругленный прямоугольник 3"/>
              <p:cNvSpPr/>
              <p:nvPr/>
            </p:nvSpPr>
            <p:spPr>
              <a:xfrm>
                <a:off x="179280" y="2204640"/>
                <a:ext cx="4176720" cy="165564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1"/>
                <a:srcRect/>
                <a:stretch/>
              </a:blipFill>
              <a:ln w="7632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Box 10"/>
              <p:cNvSpPr/>
              <p:nvPr/>
            </p:nvSpPr>
            <p:spPr>
              <a:xfrm>
                <a:off x="611280" y="2636280"/>
                <a:ext cx="35733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ученицы  3  класса «А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           </a:t>
                </a: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ГБОУ школы № 6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Box 11"/>
              <p:cNvSpPr/>
              <p:nvPr/>
            </p:nvSpPr>
            <p:spPr>
              <a:xfrm>
                <a:off x="1694520" y="2204640"/>
                <a:ext cx="189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7030a0"/>
                    </a:solidFill>
                    <a:latin typeface="Arial"/>
                  </a:rPr>
                  <a:t>Дневник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6" name="Picture 2" descr="D:\клипарты\букеты\0cfdc4115284.png"/>
              <p:cNvPicPr/>
              <p:nvPr/>
            </p:nvPicPr>
            <p:blipFill>
              <a:blip r:embed="rId2"/>
              <a:stretch/>
            </p:blipFill>
            <p:spPr>
              <a:xfrm>
                <a:off x="251280" y="2492280"/>
                <a:ext cx="936000" cy="123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Picture 5" descr="D:\клипарты\природа\0_c2e0c_221cc048_S.png"/>
              <p:cNvPicPr/>
              <p:nvPr/>
            </p:nvPicPr>
            <p:blipFill>
              <a:blip r:embed="rId3"/>
              <a:stretch/>
            </p:blipFill>
            <p:spPr>
              <a:xfrm>
                <a:off x="3708000" y="2204640"/>
                <a:ext cx="576000" cy="630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8" name="Группа 14"/>
            <p:cNvGrpSpPr/>
            <p:nvPr/>
          </p:nvGrpSpPr>
          <p:grpSpPr>
            <a:xfrm>
              <a:off x="179280" y="189000"/>
              <a:ext cx="4176720" cy="1727280"/>
              <a:chOff x="179280" y="189000"/>
              <a:chExt cx="4176720" cy="1727280"/>
            </a:xfrm>
          </p:grpSpPr>
          <p:sp>
            <p:nvSpPr>
              <p:cNvPr id="279" name="Скругленный прямоугольник 2"/>
              <p:cNvSpPr/>
              <p:nvPr/>
            </p:nvSpPr>
            <p:spPr>
              <a:xfrm>
                <a:off x="179280" y="260640"/>
                <a:ext cx="4176720" cy="165564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4"/>
                <a:srcRect/>
                <a:stretch/>
              </a:blipFill>
              <a:ln w="7632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0" name="Picture 2" descr="D:\клипарты\букеты\0cfdc4115284.png"/>
              <p:cNvPicPr/>
              <p:nvPr/>
            </p:nvPicPr>
            <p:blipFill>
              <a:blip r:embed="rId5"/>
              <a:stretch/>
            </p:blipFill>
            <p:spPr>
              <a:xfrm>
                <a:off x="3420000" y="621000"/>
                <a:ext cx="936000" cy="123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TextBox 6"/>
              <p:cNvSpPr/>
              <p:nvPr/>
            </p:nvSpPr>
            <p:spPr>
              <a:xfrm>
                <a:off x="1262160" y="189000"/>
                <a:ext cx="189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7030a0"/>
                    </a:solidFill>
                    <a:latin typeface="Arial"/>
                  </a:rPr>
                  <a:t>Дневник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Box 7"/>
              <p:cNvSpPr/>
              <p:nvPr/>
            </p:nvSpPr>
            <p:spPr>
              <a:xfrm>
                <a:off x="323280" y="621000"/>
                <a:ext cx="33573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ученицы  3  класса «А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           </a:t>
                </a: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ГБОУ школы № 6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3" name="Picture 6" descr="D:\клипарты\природа\0_c2e27_e253e6db_S.png"/>
              <p:cNvPicPr/>
              <p:nvPr/>
            </p:nvPicPr>
            <p:blipFill>
              <a:blip r:embed="rId6"/>
              <a:stretch/>
            </p:blipFill>
            <p:spPr>
              <a:xfrm>
                <a:off x="251280" y="333000"/>
                <a:ext cx="757080" cy="722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84" name="Группа 14"/>
          <p:cNvGrpSpPr/>
          <p:nvPr/>
        </p:nvGrpSpPr>
        <p:grpSpPr>
          <a:xfrm>
            <a:off x="4716360" y="189000"/>
            <a:ext cx="4176720" cy="3671280"/>
            <a:chOff x="4716360" y="189000"/>
            <a:chExt cx="4176720" cy="3671280"/>
          </a:xfrm>
        </p:grpSpPr>
        <p:grpSp>
          <p:nvGrpSpPr>
            <p:cNvPr id="285" name="Группа 15"/>
            <p:cNvGrpSpPr/>
            <p:nvPr/>
          </p:nvGrpSpPr>
          <p:grpSpPr>
            <a:xfrm>
              <a:off x="4716360" y="2204640"/>
              <a:ext cx="4176720" cy="1655640"/>
              <a:chOff x="4716360" y="2204640"/>
              <a:chExt cx="4176720" cy="1655640"/>
            </a:xfrm>
          </p:grpSpPr>
          <p:sp>
            <p:nvSpPr>
              <p:cNvPr id="286" name="Скругленный прямоугольник 3"/>
              <p:cNvSpPr/>
              <p:nvPr/>
            </p:nvSpPr>
            <p:spPr>
              <a:xfrm>
                <a:off x="4716360" y="2204640"/>
                <a:ext cx="4176720" cy="165564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7"/>
                <a:srcRect/>
                <a:stretch/>
              </a:blipFill>
              <a:ln w="7632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Box 23"/>
              <p:cNvSpPr/>
              <p:nvPr/>
            </p:nvSpPr>
            <p:spPr>
              <a:xfrm>
                <a:off x="5148360" y="2636280"/>
                <a:ext cx="35733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ученицы  3  класса «А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           </a:t>
                </a: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ГБОУ школы № 6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Box 24"/>
              <p:cNvSpPr/>
              <p:nvPr/>
            </p:nvSpPr>
            <p:spPr>
              <a:xfrm>
                <a:off x="6231600" y="2204640"/>
                <a:ext cx="189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7030a0"/>
                    </a:solidFill>
                    <a:latin typeface="Arial"/>
                  </a:rPr>
                  <a:t>Дневник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9" name="Picture 2" descr="D:\клипарты\букеты\0cfdc4115284.png"/>
              <p:cNvPicPr/>
              <p:nvPr/>
            </p:nvPicPr>
            <p:blipFill>
              <a:blip r:embed="rId8"/>
              <a:stretch/>
            </p:blipFill>
            <p:spPr>
              <a:xfrm>
                <a:off x="4788360" y="2492280"/>
                <a:ext cx="936000" cy="123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Picture 5" descr="D:\клипарты\природа\0_c2e0c_221cc048_S.png"/>
              <p:cNvPicPr/>
              <p:nvPr/>
            </p:nvPicPr>
            <p:blipFill>
              <a:blip r:embed="rId9"/>
              <a:stretch/>
            </p:blipFill>
            <p:spPr>
              <a:xfrm>
                <a:off x="8245080" y="2204640"/>
                <a:ext cx="576000" cy="630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1" name="Группа 14"/>
            <p:cNvGrpSpPr/>
            <p:nvPr/>
          </p:nvGrpSpPr>
          <p:grpSpPr>
            <a:xfrm>
              <a:off x="4716360" y="189000"/>
              <a:ext cx="4176720" cy="1727280"/>
              <a:chOff x="4716360" y="189000"/>
              <a:chExt cx="4176720" cy="1727280"/>
            </a:xfrm>
          </p:grpSpPr>
          <p:sp>
            <p:nvSpPr>
              <p:cNvPr id="292" name="Скругленный прямоугольник 2"/>
              <p:cNvSpPr/>
              <p:nvPr/>
            </p:nvSpPr>
            <p:spPr>
              <a:xfrm>
                <a:off x="4716360" y="260640"/>
                <a:ext cx="4176720" cy="165564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10"/>
                <a:srcRect/>
                <a:stretch/>
              </a:blipFill>
              <a:ln w="7632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3" name="Picture 2" descr="D:\клипарты\букеты\0cfdc4115284.png"/>
              <p:cNvPicPr/>
              <p:nvPr/>
            </p:nvPicPr>
            <p:blipFill>
              <a:blip r:embed="rId11"/>
              <a:stretch/>
            </p:blipFill>
            <p:spPr>
              <a:xfrm>
                <a:off x="7957080" y="621000"/>
                <a:ext cx="936000" cy="123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Box 19"/>
              <p:cNvSpPr/>
              <p:nvPr/>
            </p:nvSpPr>
            <p:spPr>
              <a:xfrm>
                <a:off x="5799240" y="189000"/>
                <a:ext cx="189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7030a0"/>
                    </a:solidFill>
                    <a:latin typeface="Arial"/>
                  </a:rPr>
                  <a:t>Дневник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Box 20"/>
              <p:cNvSpPr/>
              <p:nvPr/>
            </p:nvSpPr>
            <p:spPr>
              <a:xfrm>
                <a:off x="4860360" y="621000"/>
                <a:ext cx="33573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ученицы  3  класса «А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           </a:t>
                </a: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ГБОУ школы № 6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6" name="Picture 6" descr="D:\клипарты\природа\0_c2e27_e253e6db_S.png"/>
              <p:cNvPicPr/>
              <p:nvPr/>
            </p:nvPicPr>
            <p:blipFill>
              <a:blip r:embed="rId12"/>
              <a:stretch/>
            </p:blipFill>
            <p:spPr>
              <a:xfrm>
                <a:off x="4788360" y="333000"/>
                <a:ext cx="757080" cy="722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97" name="Прямоугольник 27"/>
          <p:cNvSpPr/>
          <p:nvPr/>
        </p:nvSpPr>
        <p:spPr>
          <a:xfrm>
            <a:off x="3363120" y="64882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vk.com/shkola_a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2"/>
          <p:cNvSpPr/>
          <p:nvPr/>
        </p:nvSpPr>
        <p:spPr>
          <a:xfrm>
            <a:off x="179280" y="189000"/>
            <a:ext cx="309744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для  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о   литературному чт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чен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______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4  класса  «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ГБОУ  школ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№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3492360" y="189000"/>
            <a:ext cx="309564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для  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о   литературному чт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чен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______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4  класса  «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ГБОУ  школ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№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179280" y="2349360"/>
            <a:ext cx="309744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для  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о   литературному чт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чен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______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4  класса  «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ГБОУ  школ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№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3492360" y="2349360"/>
            <a:ext cx="309564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для  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о   литературному чт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чен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______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4  класса  «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ГБОУ  школ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№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179280" y="4581360"/>
            <a:ext cx="309744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для  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о   литературному чт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чен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______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4  класса  «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ГБОУ  школ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№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3492360" y="4508640"/>
            <a:ext cx="309564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для  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о   литературному чт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чен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______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4  класса  «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ГБОУ  школ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№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 rot="16200000">
            <a:off x="6319800" y="745920"/>
            <a:ext cx="309564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для  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о   литературному чт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чен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______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4  класса  «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ГБОУ  школ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№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 rot="16200000">
            <a:off x="6318720" y="4058280"/>
            <a:ext cx="309744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для  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о   литературному чт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чен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______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4  класса  «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ГБОУ  школ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№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250920" y="260280"/>
            <a:ext cx="3673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 математ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еницы  2 класса « 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БОУ школы № 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250920" y="189000"/>
            <a:ext cx="4033800" cy="2016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G:\01. Сайт .Архив\Клипарт\шаблоны для рабочих листов\4b65d40d73fd21fa851a450abe669390.png"/>
          <p:cNvPicPr/>
          <p:nvPr/>
        </p:nvPicPr>
        <p:blipFill>
          <a:blip r:embed="rId1"/>
          <a:stretch/>
        </p:blipFill>
        <p:spPr>
          <a:xfrm>
            <a:off x="3564000" y="1484280"/>
            <a:ext cx="647640" cy="628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4788000" y="260280"/>
            <a:ext cx="3671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 математ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еника  2 класса « 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БОУ школы № 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4716360" y="189000"/>
            <a:ext cx="4032360" cy="2016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G:\01. Сайт .Архив\Клипарт\шаблоны для рабочих листов\ca21223114925e73885b2149f187c88f.jpg"/>
          <p:cNvPicPr/>
          <p:nvPr/>
        </p:nvPicPr>
        <p:blipFill>
          <a:blip r:embed="rId2"/>
          <a:stretch/>
        </p:blipFill>
        <p:spPr>
          <a:xfrm>
            <a:off x="8028000" y="1484280"/>
            <a:ext cx="674640" cy="649440"/>
          </a:xfrm>
          <a:prstGeom prst="rect">
            <a:avLst/>
          </a:prstGeom>
          <a:ln w="0">
            <a:noFill/>
          </a:ln>
        </p:spPr>
      </p:pic>
      <p:sp>
        <p:nvSpPr>
          <p:cNvPr id="56" name="TextBox 26"/>
          <p:cNvSpPr/>
          <p:nvPr/>
        </p:nvSpPr>
        <p:spPr>
          <a:xfrm>
            <a:off x="250920" y="2492280"/>
            <a:ext cx="3673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 математ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еницы  2 класса « 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БОУ школы № 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250920" y="2421000"/>
            <a:ext cx="4033800" cy="2016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G:\01. Сайт .Архив\Клипарт\шаблоны для рабочих листов\4b65d40d73fd21fa851a450abe669390.png"/>
          <p:cNvPicPr/>
          <p:nvPr/>
        </p:nvPicPr>
        <p:blipFill>
          <a:blip r:embed="rId3"/>
          <a:stretch/>
        </p:blipFill>
        <p:spPr>
          <a:xfrm>
            <a:off x="3564000" y="3716280"/>
            <a:ext cx="647640" cy="630360"/>
          </a:xfrm>
          <a:prstGeom prst="rect">
            <a:avLst/>
          </a:prstGeom>
          <a:ln w="0">
            <a:noFill/>
          </a:ln>
        </p:spPr>
      </p:pic>
      <p:sp>
        <p:nvSpPr>
          <p:cNvPr id="59" name="TextBox 29"/>
          <p:cNvSpPr/>
          <p:nvPr/>
        </p:nvSpPr>
        <p:spPr>
          <a:xfrm>
            <a:off x="4788000" y="2492280"/>
            <a:ext cx="3671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 математ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еника  2 класса « 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БОУ школы № 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0"/>
          <p:cNvSpPr/>
          <p:nvPr/>
        </p:nvSpPr>
        <p:spPr>
          <a:xfrm>
            <a:off x="4716360" y="2421000"/>
            <a:ext cx="4032360" cy="2016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G:\01. Сайт .Архив\Клипарт\шаблоны для рабочих листов\ca21223114925e73885b2149f187c88f.jpg"/>
          <p:cNvPicPr/>
          <p:nvPr/>
        </p:nvPicPr>
        <p:blipFill>
          <a:blip r:embed="rId4"/>
          <a:stretch/>
        </p:blipFill>
        <p:spPr>
          <a:xfrm>
            <a:off x="8028000" y="3716280"/>
            <a:ext cx="674640" cy="649440"/>
          </a:xfrm>
          <a:prstGeom prst="rect">
            <a:avLst/>
          </a:prstGeom>
          <a:ln w="0">
            <a:noFill/>
          </a:ln>
        </p:spPr>
      </p:pic>
      <p:sp>
        <p:nvSpPr>
          <p:cNvPr id="62" name="TextBox 33"/>
          <p:cNvSpPr/>
          <p:nvPr/>
        </p:nvSpPr>
        <p:spPr>
          <a:xfrm>
            <a:off x="250920" y="4724280"/>
            <a:ext cx="3673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 математ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еницы  2 класса « 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БОУ школы № 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4"/>
          <p:cNvSpPr/>
          <p:nvPr/>
        </p:nvSpPr>
        <p:spPr>
          <a:xfrm>
            <a:off x="250920" y="4653000"/>
            <a:ext cx="4033800" cy="2016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G:\01. Сайт .Архив\Клипарт\шаблоны для рабочих листов\4b65d40d73fd21fa851a450abe669390.png"/>
          <p:cNvPicPr/>
          <p:nvPr/>
        </p:nvPicPr>
        <p:blipFill>
          <a:blip r:embed="rId5"/>
          <a:stretch/>
        </p:blipFill>
        <p:spPr>
          <a:xfrm>
            <a:off x="3564000" y="5950080"/>
            <a:ext cx="647640" cy="628560"/>
          </a:xfrm>
          <a:prstGeom prst="rect">
            <a:avLst/>
          </a:prstGeom>
          <a:ln w="0">
            <a:noFill/>
          </a:ln>
        </p:spPr>
      </p:pic>
      <p:sp>
        <p:nvSpPr>
          <p:cNvPr id="65" name="TextBox 36"/>
          <p:cNvSpPr/>
          <p:nvPr/>
        </p:nvSpPr>
        <p:spPr>
          <a:xfrm>
            <a:off x="4788000" y="4724280"/>
            <a:ext cx="3671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 математ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еника  2 класса « 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БОУ школы № 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7"/>
          <p:cNvSpPr/>
          <p:nvPr/>
        </p:nvSpPr>
        <p:spPr>
          <a:xfrm>
            <a:off x="4716360" y="4653000"/>
            <a:ext cx="4032360" cy="2016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G:\01. Сайт .Архив\Клипарт\шаблоны для рабочих листов\ca21223114925e73885b2149f187c88f.jpg"/>
          <p:cNvPicPr/>
          <p:nvPr/>
        </p:nvPicPr>
        <p:blipFill>
          <a:blip r:embed="rId6"/>
          <a:stretch/>
        </p:blipFill>
        <p:spPr>
          <a:xfrm>
            <a:off x="8028000" y="5950080"/>
            <a:ext cx="674640" cy="647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G:\01. Сайт .Архив\Клипарт\шаблоны для рабочих листов\a15e22e54adcba1b8cfb03f5a9dbc8a0.jpg"/>
          <p:cNvPicPr/>
          <p:nvPr/>
        </p:nvPicPr>
        <p:blipFill>
          <a:blip r:embed="rId7"/>
          <a:stretch/>
        </p:blipFill>
        <p:spPr>
          <a:xfrm>
            <a:off x="324000" y="260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G:\01. Сайт .Архив\Клипарт\шаблоны для рабочих листов\a15e22e54adcba1b8cfb03f5a9dbc8a0.jpg"/>
          <p:cNvPicPr/>
          <p:nvPr/>
        </p:nvPicPr>
        <p:blipFill>
          <a:blip r:embed="rId8"/>
          <a:stretch/>
        </p:blipFill>
        <p:spPr>
          <a:xfrm>
            <a:off x="324000" y="2492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G:\01. Сайт .Архив\Клипарт\шаблоны для рабочих листов\a15e22e54adcba1b8cfb03f5a9dbc8a0.jpg"/>
          <p:cNvPicPr/>
          <p:nvPr/>
        </p:nvPicPr>
        <p:blipFill>
          <a:blip r:embed="rId9"/>
          <a:stretch/>
        </p:blipFill>
        <p:spPr>
          <a:xfrm>
            <a:off x="324000" y="4724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G:\01. Сайт .Архив\Клипарт\шаблоны для рабочих листов\a15e22e54adcba1b8cfb03f5a9dbc8a0.jpg"/>
          <p:cNvPicPr/>
          <p:nvPr/>
        </p:nvPicPr>
        <p:blipFill>
          <a:blip r:embed="rId10"/>
          <a:stretch/>
        </p:blipFill>
        <p:spPr>
          <a:xfrm>
            <a:off x="4788000" y="260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G:\01. Сайт .Архив\Клипарт\шаблоны для рабочих листов\a15e22e54adcba1b8cfb03f5a9dbc8a0.jpg"/>
          <p:cNvPicPr/>
          <p:nvPr/>
        </p:nvPicPr>
        <p:blipFill>
          <a:blip r:embed="rId11"/>
          <a:stretch/>
        </p:blipFill>
        <p:spPr>
          <a:xfrm>
            <a:off x="4788000" y="2492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G:\01. Сайт .Архив\Клипарт\шаблоны для рабочих листов\a15e22e54adcba1b8cfb03f5a9dbc8a0.jpg"/>
          <p:cNvPicPr/>
          <p:nvPr/>
        </p:nvPicPr>
        <p:blipFill>
          <a:blip r:embed="rId12"/>
          <a:stretch/>
        </p:blipFill>
        <p:spPr>
          <a:xfrm>
            <a:off x="4788000" y="472428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Группа 22"/>
          <p:cNvGrpSpPr/>
          <p:nvPr/>
        </p:nvGrpSpPr>
        <p:grpSpPr>
          <a:xfrm>
            <a:off x="179280" y="2349360"/>
            <a:ext cx="8569440" cy="2016360"/>
            <a:chOff x="179280" y="2349360"/>
            <a:chExt cx="8569440" cy="2016360"/>
          </a:xfrm>
        </p:grpSpPr>
        <p:pic>
          <p:nvPicPr>
            <p:cNvPr id="75" name="Picture 5" descr="G:\01. Сайт .Архив\Клипарт\шаблоны для рабочих листов\d28c0154e2c55c40857985ba5955a9e1.png"/>
            <p:cNvPicPr/>
            <p:nvPr/>
          </p:nvPicPr>
          <p:blipFill>
            <a:blip r:embed="rId1"/>
            <a:stretch/>
          </p:blipFill>
          <p:spPr>
            <a:xfrm>
              <a:off x="3419640" y="2421360"/>
              <a:ext cx="837720" cy="8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Прямоугольник 9"/>
            <p:cNvSpPr/>
            <p:nvPr/>
          </p:nvSpPr>
          <p:spPr>
            <a:xfrm>
              <a:off x="250560" y="2349360"/>
              <a:ext cx="4033800" cy="2016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10"/>
            <p:cNvSpPr/>
            <p:nvPr/>
          </p:nvSpPr>
          <p:spPr>
            <a:xfrm>
              <a:off x="179280" y="2493360"/>
              <a:ext cx="3672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Тетрад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для контрольных  рабо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по математик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учени __  2 класса « А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ГБОУ школы № 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11"/>
            <p:cNvSpPr/>
            <p:nvPr/>
          </p:nvSpPr>
          <p:spPr>
            <a:xfrm>
              <a:off x="4716000" y="2493360"/>
              <a:ext cx="3672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Тетрад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для контрольных  рабо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по русскому язык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учени __  2 класса « А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ГБОУ школы № 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Прямоугольник 12"/>
            <p:cNvSpPr/>
            <p:nvPr/>
          </p:nvSpPr>
          <p:spPr>
            <a:xfrm>
              <a:off x="4716360" y="2349360"/>
              <a:ext cx="4032360" cy="2016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7" descr="G:\01. Сайт .Архив\Клипарт\шаблоны для рабочих листов\ea0b70a10e0cc6081af8881b1d88c74a.jpg"/>
            <p:cNvPicPr/>
            <p:nvPr/>
          </p:nvPicPr>
          <p:blipFill>
            <a:blip r:embed="rId2"/>
            <a:stretch/>
          </p:blipFill>
          <p:spPr>
            <a:xfrm>
              <a:off x="7884720" y="2349360"/>
              <a:ext cx="770400" cy="77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7" descr="G:\01. Сайт .Архив\Клипарт\шаблоны для рабочих листов\ea0b70a10e0cc6081af8881b1d88c74a.jpg"/>
            <p:cNvPicPr/>
            <p:nvPr/>
          </p:nvPicPr>
          <p:blipFill>
            <a:blip r:embed="rId3"/>
            <a:stretch/>
          </p:blipFill>
          <p:spPr>
            <a:xfrm>
              <a:off x="4860000" y="3933720"/>
              <a:ext cx="288000" cy="28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Группа 23"/>
          <p:cNvGrpSpPr/>
          <p:nvPr/>
        </p:nvGrpSpPr>
        <p:grpSpPr>
          <a:xfrm>
            <a:off x="179280" y="189000"/>
            <a:ext cx="8569440" cy="2016000"/>
            <a:chOff x="179280" y="189000"/>
            <a:chExt cx="8569440" cy="2016000"/>
          </a:xfrm>
        </p:grpSpPr>
        <p:pic>
          <p:nvPicPr>
            <p:cNvPr id="83" name="Picture 5" descr="G:\01. Сайт .Архив\Клипарт\шаблоны для рабочих листов\d28c0154e2c55c40857985ba5955a9e1.png"/>
            <p:cNvPicPr/>
            <p:nvPr/>
          </p:nvPicPr>
          <p:blipFill>
            <a:blip r:embed="rId4"/>
            <a:stretch/>
          </p:blipFill>
          <p:spPr>
            <a:xfrm>
              <a:off x="3419640" y="261000"/>
              <a:ext cx="837720" cy="8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Прямоугольник 25"/>
            <p:cNvSpPr/>
            <p:nvPr/>
          </p:nvSpPr>
          <p:spPr>
            <a:xfrm>
              <a:off x="250560" y="189000"/>
              <a:ext cx="4033800" cy="201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26"/>
            <p:cNvSpPr/>
            <p:nvPr/>
          </p:nvSpPr>
          <p:spPr>
            <a:xfrm>
              <a:off x="179280" y="333000"/>
              <a:ext cx="3672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Тетрад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для контрольных  рабо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по математик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учени __  2 класса « А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ГБОУ школы № 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27"/>
            <p:cNvSpPr/>
            <p:nvPr/>
          </p:nvSpPr>
          <p:spPr>
            <a:xfrm>
              <a:off x="4716000" y="333000"/>
              <a:ext cx="3672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Тетрад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для контрольных  рабо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по русскому язык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учени __  2 класса « А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ГБОУ школы № 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Прямоугольник 28"/>
            <p:cNvSpPr/>
            <p:nvPr/>
          </p:nvSpPr>
          <p:spPr>
            <a:xfrm>
              <a:off x="4716360" y="189000"/>
              <a:ext cx="4032360" cy="201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7" descr="G:\01. Сайт .Архив\Клипарт\шаблоны для рабочих листов\ea0b70a10e0cc6081af8881b1d88c74a.jpg"/>
            <p:cNvPicPr/>
            <p:nvPr/>
          </p:nvPicPr>
          <p:blipFill>
            <a:blip r:embed="rId5"/>
            <a:stretch/>
          </p:blipFill>
          <p:spPr>
            <a:xfrm>
              <a:off x="7884720" y="189000"/>
              <a:ext cx="77040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7" descr="G:\01. Сайт .Архив\Клипарт\шаблоны для рабочих листов\ea0b70a10e0cc6081af8881b1d88c74a.jpg"/>
            <p:cNvPicPr/>
            <p:nvPr/>
          </p:nvPicPr>
          <p:blipFill>
            <a:blip r:embed="rId6"/>
            <a:stretch/>
          </p:blipFill>
          <p:spPr>
            <a:xfrm>
              <a:off x="4860000" y="1773000"/>
              <a:ext cx="288000" cy="28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Группа 31"/>
          <p:cNvGrpSpPr/>
          <p:nvPr/>
        </p:nvGrpSpPr>
        <p:grpSpPr>
          <a:xfrm>
            <a:off x="179280" y="4653000"/>
            <a:ext cx="8569440" cy="2016000"/>
            <a:chOff x="179280" y="4653000"/>
            <a:chExt cx="8569440" cy="2016000"/>
          </a:xfrm>
        </p:grpSpPr>
        <p:pic>
          <p:nvPicPr>
            <p:cNvPr id="91" name="Picture 5" descr="G:\01. Сайт .Архив\Клипарт\шаблоны для рабочих листов\d28c0154e2c55c40857985ba5955a9e1.png"/>
            <p:cNvPicPr/>
            <p:nvPr/>
          </p:nvPicPr>
          <p:blipFill>
            <a:blip r:embed="rId7"/>
            <a:stretch/>
          </p:blipFill>
          <p:spPr>
            <a:xfrm>
              <a:off x="3419640" y="4725000"/>
              <a:ext cx="837720" cy="8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Прямоугольник 33"/>
            <p:cNvSpPr/>
            <p:nvPr/>
          </p:nvSpPr>
          <p:spPr>
            <a:xfrm>
              <a:off x="250560" y="4653000"/>
              <a:ext cx="4033800" cy="201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34"/>
            <p:cNvSpPr/>
            <p:nvPr/>
          </p:nvSpPr>
          <p:spPr>
            <a:xfrm>
              <a:off x="179280" y="4797000"/>
              <a:ext cx="3672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Тетрад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для контрольных  рабо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по математик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учени __  2 класса « А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ГБОУ школы № 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35"/>
            <p:cNvSpPr/>
            <p:nvPr/>
          </p:nvSpPr>
          <p:spPr>
            <a:xfrm>
              <a:off x="4716000" y="4797000"/>
              <a:ext cx="3672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Тетрад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для контрольных  рабо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по русскому язык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учени __  2 класса « А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ГБОУ школы № 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Прямоугольник 36"/>
            <p:cNvSpPr/>
            <p:nvPr/>
          </p:nvSpPr>
          <p:spPr>
            <a:xfrm>
              <a:off x="4716360" y="4653000"/>
              <a:ext cx="4032360" cy="201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7" descr="G:\01. Сайт .Архив\Клипарт\шаблоны для рабочих листов\ea0b70a10e0cc6081af8881b1d88c74a.jpg"/>
            <p:cNvPicPr/>
            <p:nvPr/>
          </p:nvPicPr>
          <p:blipFill>
            <a:blip r:embed="rId8"/>
            <a:stretch/>
          </p:blipFill>
          <p:spPr>
            <a:xfrm>
              <a:off x="7884720" y="4653000"/>
              <a:ext cx="77040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7" descr="G:\01. Сайт .Архив\Клипарт\шаблоны для рабочих листов\ea0b70a10e0cc6081af8881b1d88c74a.jpg"/>
            <p:cNvPicPr/>
            <p:nvPr/>
          </p:nvPicPr>
          <p:blipFill>
            <a:blip r:embed="rId9"/>
            <a:stretch/>
          </p:blipFill>
          <p:spPr>
            <a:xfrm>
              <a:off x="4860000" y="6237000"/>
              <a:ext cx="288000" cy="28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Picture 2" descr="G:\01. Сайт .Архив\Клипарт\шаблоны для рабочих листов\f62966fa244eb51d8ef4a9e7291475a8.jpg"/>
          <p:cNvPicPr/>
          <p:nvPr/>
        </p:nvPicPr>
        <p:blipFill>
          <a:blip r:embed="rId10"/>
          <a:stretch/>
        </p:blipFill>
        <p:spPr>
          <a:xfrm>
            <a:off x="324000" y="2421000"/>
            <a:ext cx="474480" cy="474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G:\01. Сайт .Архив\Клипарт\шаблоны для рабочих листов\f62966fa244eb51d8ef4a9e7291475a8.jpg"/>
          <p:cNvPicPr/>
          <p:nvPr/>
        </p:nvPicPr>
        <p:blipFill>
          <a:blip r:embed="rId11"/>
          <a:stretch/>
        </p:blipFill>
        <p:spPr>
          <a:xfrm>
            <a:off x="324000" y="260280"/>
            <a:ext cx="474480" cy="474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G:\01. Сайт .Архив\Клипарт\шаблоны для рабочих листов\f62966fa244eb51d8ef4a9e7291475a8.jpg"/>
          <p:cNvPicPr/>
          <p:nvPr/>
        </p:nvPicPr>
        <p:blipFill>
          <a:blip r:embed="rId12"/>
          <a:stretch/>
        </p:blipFill>
        <p:spPr>
          <a:xfrm>
            <a:off x="324000" y="4724280"/>
            <a:ext cx="47448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Группа 22"/>
          <p:cNvGrpSpPr/>
          <p:nvPr/>
        </p:nvGrpSpPr>
        <p:grpSpPr>
          <a:xfrm>
            <a:off x="250920" y="4653000"/>
            <a:ext cx="8497800" cy="2016000"/>
            <a:chOff x="250920" y="4653000"/>
            <a:chExt cx="8497800" cy="2016000"/>
          </a:xfrm>
        </p:grpSpPr>
        <p:sp>
          <p:nvSpPr>
            <p:cNvPr id="102" name="TextBox 16"/>
            <p:cNvSpPr/>
            <p:nvPr/>
          </p:nvSpPr>
          <p:spPr>
            <a:xfrm>
              <a:off x="322920" y="4797000"/>
              <a:ext cx="3672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Тетрад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для  рабо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по русскому язык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ученицы  2 класса « А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ГБОУ школы № 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рямоугольник 17"/>
            <p:cNvSpPr/>
            <p:nvPr/>
          </p:nvSpPr>
          <p:spPr>
            <a:xfrm>
              <a:off x="250920" y="4653000"/>
              <a:ext cx="4032360" cy="201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8" descr="G:\01. Сайт .Архив\Клипарт\шаблоны для рабочих листов\9a8b5f474e7da7e77809a4857076f080 (1).jpg"/>
            <p:cNvPicPr/>
            <p:nvPr/>
          </p:nvPicPr>
          <p:blipFill>
            <a:blip r:embed="rId1"/>
            <a:stretch/>
          </p:blipFill>
          <p:spPr>
            <a:xfrm>
              <a:off x="3347640" y="4653000"/>
              <a:ext cx="813600" cy="94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8" descr="G:\01. Сайт .Архив\Клипарт\шаблоны для рабочих листов\9a8b5f474e7da7e77809a4857076f080 (1).jpg"/>
            <p:cNvPicPr/>
            <p:nvPr/>
          </p:nvPicPr>
          <p:blipFill>
            <a:blip r:embed="rId2"/>
            <a:stretch/>
          </p:blipFill>
          <p:spPr>
            <a:xfrm>
              <a:off x="394920" y="5733000"/>
              <a:ext cx="432000" cy="5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20"/>
            <p:cNvSpPr/>
            <p:nvPr/>
          </p:nvSpPr>
          <p:spPr>
            <a:xfrm>
              <a:off x="4932000" y="4797000"/>
              <a:ext cx="3672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Тетрад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для  рабо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по русскому язык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ученика 2 класса « А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ГБОУ школы № 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Прямоугольник 21"/>
            <p:cNvSpPr/>
            <p:nvPr/>
          </p:nvSpPr>
          <p:spPr>
            <a:xfrm>
              <a:off x="4716360" y="4653000"/>
              <a:ext cx="4032360" cy="201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9" descr="G:\01. Сайт .Архив\Клипарт\шаблоны для рабочих листов\72f0f9eeeaf8b7c416c28a162ca79c92.jpg"/>
            <p:cNvPicPr/>
            <p:nvPr/>
          </p:nvPicPr>
          <p:blipFill>
            <a:blip r:embed="rId3"/>
            <a:stretch/>
          </p:blipFill>
          <p:spPr>
            <a:xfrm>
              <a:off x="7884720" y="4725000"/>
              <a:ext cx="746640" cy="92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0" descr="G:\01. Сайт .Архив\Клипарт\шаблоны для рабочих листов\ec802d90f772ce303579445da5e9101c.jpg"/>
            <p:cNvPicPr/>
            <p:nvPr/>
          </p:nvPicPr>
          <p:blipFill>
            <a:blip r:embed="rId4"/>
            <a:stretch/>
          </p:blipFill>
          <p:spPr>
            <a:xfrm>
              <a:off x="4788000" y="5733000"/>
              <a:ext cx="628920" cy="85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Группа 23"/>
          <p:cNvGrpSpPr/>
          <p:nvPr/>
        </p:nvGrpSpPr>
        <p:grpSpPr>
          <a:xfrm>
            <a:off x="250920" y="2421000"/>
            <a:ext cx="8497800" cy="2016000"/>
            <a:chOff x="250920" y="2421000"/>
            <a:chExt cx="8497800" cy="2016000"/>
          </a:xfrm>
        </p:grpSpPr>
        <p:sp>
          <p:nvSpPr>
            <p:cNvPr id="111" name="TextBox 24"/>
            <p:cNvSpPr/>
            <p:nvPr/>
          </p:nvSpPr>
          <p:spPr>
            <a:xfrm>
              <a:off x="322920" y="2565000"/>
              <a:ext cx="3672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Тетрад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для  рабо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по русскому язык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ученицы  2 класса « А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ГБОУ школы № 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рямоугольник 25"/>
            <p:cNvSpPr/>
            <p:nvPr/>
          </p:nvSpPr>
          <p:spPr>
            <a:xfrm>
              <a:off x="250920" y="2421000"/>
              <a:ext cx="4032360" cy="201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8" descr="G:\01. Сайт .Архив\Клипарт\шаблоны для рабочих листов\9a8b5f474e7da7e77809a4857076f080 (1).jpg"/>
            <p:cNvPicPr/>
            <p:nvPr/>
          </p:nvPicPr>
          <p:blipFill>
            <a:blip r:embed="rId5"/>
            <a:stretch/>
          </p:blipFill>
          <p:spPr>
            <a:xfrm>
              <a:off x="3347640" y="2421000"/>
              <a:ext cx="813600" cy="94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8" descr="G:\01. Сайт .Архив\Клипарт\шаблоны для рабочих листов\9a8b5f474e7da7e77809a4857076f080 (1).jpg"/>
            <p:cNvPicPr/>
            <p:nvPr/>
          </p:nvPicPr>
          <p:blipFill>
            <a:blip r:embed="rId6"/>
            <a:stretch/>
          </p:blipFill>
          <p:spPr>
            <a:xfrm>
              <a:off x="394920" y="3501000"/>
              <a:ext cx="432000" cy="5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Box 28"/>
            <p:cNvSpPr/>
            <p:nvPr/>
          </p:nvSpPr>
          <p:spPr>
            <a:xfrm>
              <a:off x="4932000" y="2565000"/>
              <a:ext cx="3672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Тетрад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для  рабо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по русскому язык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ученика 2 класса « А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ГБОУ школы № 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Прямоугольник 29"/>
            <p:cNvSpPr/>
            <p:nvPr/>
          </p:nvSpPr>
          <p:spPr>
            <a:xfrm>
              <a:off x="4716360" y="2421000"/>
              <a:ext cx="4032360" cy="201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Picture 9" descr="G:\01. Сайт .Архив\Клипарт\шаблоны для рабочих листов\72f0f9eeeaf8b7c416c28a162ca79c92.jpg"/>
            <p:cNvPicPr/>
            <p:nvPr/>
          </p:nvPicPr>
          <p:blipFill>
            <a:blip r:embed="rId7"/>
            <a:stretch/>
          </p:blipFill>
          <p:spPr>
            <a:xfrm>
              <a:off x="7884720" y="2493000"/>
              <a:ext cx="746640" cy="92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0" descr="G:\01. Сайт .Архив\Клипарт\шаблоны для рабочих листов\ec802d90f772ce303579445da5e9101c.jpg"/>
            <p:cNvPicPr/>
            <p:nvPr/>
          </p:nvPicPr>
          <p:blipFill>
            <a:blip r:embed="rId8"/>
            <a:stretch/>
          </p:blipFill>
          <p:spPr>
            <a:xfrm>
              <a:off x="4788000" y="3501000"/>
              <a:ext cx="628920" cy="85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Группа 32"/>
          <p:cNvGrpSpPr/>
          <p:nvPr/>
        </p:nvGrpSpPr>
        <p:grpSpPr>
          <a:xfrm>
            <a:off x="250920" y="189000"/>
            <a:ext cx="8497800" cy="2016000"/>
            <a:chOff x="250920" y="189000"/>
            <a:chExt cx="8497800" cy="2016000"/>
          </a:xfrm>
        </p:grpSpPr>
        <p:sp>
          <p:nvSpPr>
            <p:cNvPr id="120" name="TextBox 33"/>
            <p:cNvSpPr/>
            <p:nvPr/>
          </p:nvSpPr>
          <p:spPr>
            <a:xfrm>
              <a:off x="322920" y="333000"/>
              <a:ext cx="3672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Тетрад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для  рабо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по русскому язык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ученицы  2 класса « А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ГБОУ школы № 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рямоугольник 34"/>
            <p:cNvSpPr/>
            <p:nvPr/>
          </p:nvSpPr>
          <p:spPr>
            <a:xfrm>
              <a:off x="250920" y="189000"/>
              <a:ext cx="4032360" cy="201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8" descr="G:\01. Сайт .Архив\Клипарт\шаблоны для рабочих листов\9a8b5f474e7da7e77809a4857076f080 (1).jpg"/>
            <p:cNvPicPr/>
            <p:nvPr/>
          </p:nvPicPr>
          <p:blipFill>
            <a:blip r:embed="rId9"/>
            <a:stretch/>
          </p:blipFill>
          <p:spPr>
            <a:xfrm>
              <a:off x="3347640" y="189000"/>
              <a:ext cx="813600" cy="94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8" descr="G:\01. Сайт .Архив\Клипарт\шаблоны для рабочих листов\9a8b5f474e7da7e77809a4857076f080 (1).jpg"/>
            <p:cNvPicPr/>
            <p:nvPr/>
          </p:nvPicPr>
          <p:blipFill>
            <a:blip r:embed="rId10"/>
            <a:stretch/>
          </p:blipFill>
          <p:spPr>
            <a:xfrm>
              <a:off x="394920" y="1269000"/>
              <a:ext cx="432000" cy="5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Box 37"/>
            <p:cNvSpPr/>
            <p:nvPr/>
          </p:nvSpPr>
          <p:spPr>
            <a:xfrm>
              <a:off x="4932000" y="333000"/>
              <a:ext cx="3672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Тетрад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для  рабо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по русскому язык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ученика 2 класса « А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ГБОУ школы № 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Прямоугольник 38"/>
            <p:cNvSpPr/>
            <p:nvPr/>
          </p:nvSpPr>
          <p:spPr>
            <a:xfrm>
              <a:off x="4716360" y="189000"/>
              <a:ext cx="4032360" cy="201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9" descr="G:\01. Сайт .Архив\Клипарт\шаблоны для рабочих листов\72f0f9eeeaf8b7c416c28a162ca79c92.jpg"/>
            <p:cNvPicPr/>
            <p:nvPr/>
          </p:nvPicPr>
          <p:blipFill>
            <a:blip r:embed="rId11"/>
            <a:stretch/>
          </p:blipFill>
          <p:spPr>
            <a:xfrm>
              <a:off x="7884720" y="261000"/>
              <a:ext cx="746640" cy="92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0" descr="G:\01. Сайт .Архив\Клипарт\шаблоны для рабочих листов\ec802d90f772ce303579445da5e9101c.jpg"/>
            <p:cNvPicPr/>
            <p:nvPr/>
          </p:nvPicPr>
          <p:blipFill>
            <a:blip r:embed="rId12"/>
            <a:stretch/>
          </p:blipFill>
          <p:spPr>
            <a:xfrm>
              <a:off x="4788000" y="1269000"/>
              <a:ext cx="628920" cy="853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324000" y="260280"/>
            <a:ext cx="3671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 литературному чт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ени__  2 класса « 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БОУ школы № 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250920" y="189000"/>
            <a:ext cx="4176720" cy="2016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250920" y="2492280"/>
            <a:ext cx="3673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 литературному чт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ени__  2 класса « 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БОУ школы № 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95280" y="4653000"/>
            <a:ext cx="367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 литературному чт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ени__  2 класса « 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БОУ школы № 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5"/>
          <p:cNvSpPr/>
          <p:nvPr/>
        </p:nvSpPr>
        <p:spPr>
          <a:xfrm>
            <a:off x="250920" y="2421000"/>
            <a:ext cx="4176720" cy="2016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6"/>
          <p:cNvSpPr/>
          <p:nvPr/>
        </p:nvSpPr>
        <p:spPr>
          <a:xfrm>
            <a:off x="250920" y="4581360"/>
            <a:ext cx="4176720" cy="2016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7"/>
          <p:cNvSpPr/>
          <p:nvPr/>
        </p:nvSpPr>
        <p:spPr>
          <a:xfrm>
            <a:off x="4716360" y="189000"/>
            <a:ext cx="4032360" cy="2016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8"/>
          <p:cNvSpPr/>
          <p:nvPr/>
        </p:nvSpPr>
        <p:spPr>
          <a:xfrm>
            <a:off x="4716360" y="2421000"/>
            <a:ext cx="4032360" cy="2016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9"/>
          <p:cNvSpPr/>
          <p:nvPr/>
        </p:nvSpPr>
        <p:spPr>
          <a:xfrm>
            <a:off x="4716360" y="4581360"/>
            <a:ext cx="4032360" cy="2016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4572000" y="260280"/>
            <a:ext cx="367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 литературному чт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ени__  2 класса « 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БОУ школы № 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4643280" y="2565360"/>
            <a:ext cx="3673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 литературному чт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ени__  2 класса « 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БОУ школы № 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4716360" y="4653000"/>
            <a:ext cx="367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 литературному чт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ени__  2 класса « 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БОУ школы № 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https://i.pinimg.com/564x/c5/d0/3d/c5d03dbd357db4e41e65b1fb9b2cd869.jpg"/>
          <p:cNvPicPr/>
          <p:nvPr/>
        </p:nvPicPr>
        <p:blipFill>
          <a:blip r:embed="rId1"/>
          <a:srcRect l="9373" t="0" r="10192" b="0"/>
          <a:stretch/>
        </p:blipFill>
        <p:spPr>
          <a:xfrm>
            <a:off x="3564000" y="2924280"/>
            <a:ext cx="811080" cy="1427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https://i.pinimg.com/564x/c5/d0/3d/c5d03dbd357db4e41e65b1fb9b2cd869.jpg"/>
          <p:cNvPicPr/>
          <p:nvPr/>
        </p:nvPicPr>
        <p:blipFill>
          <a:blip r:embed="rId2"/>
          <a:srcRect l="9373" t="0" r="10192" b="0"/>
          <a:stretch/>
        </p:blipFill>
        <p:spPr>
          <a:xfrm>
            <a:off x="3564000" y="5084640"/>
            <a:ext cx="811080" cy="1427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https://i.pinimg.com/564x/c5/d0/3d/c5d03dbd357db4e41e65b1fb9b2cd869.jpg"/>
          <p:cNvPicPr/>
          <p:nvPr/>
        </p:nvPicPr>
        <p:blipFill>
          <a:blip r:embed="rId3"/>
          <a:srcRect l="9373" t="0" r="10192" b="0"/>
          <a:stretch/>
        </p:blipFill>
        <p:spPr>
          <a:xfrm>
            <a:off x="7885080" y="2997360"/>
            <a:ext cx="811080" cy="1425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https://i.pinimg.com/564x/c5/d0/3d/c5d03dbd357db4e41e65b1fb9b2cd869.jpg"/>
          <p:cNvPicPr/>
          <p:nvPr/>
        </p:nvPicPr>
        <p:blipFill>
          <a:blip r:embed="rId4"/>
          <a:srcRect l="9373" t="0" r="10192" b="0"/>
          <a:stretch/>
        </p:blipFill>
        <p:spPr>
          <a:xfrm>
            <a:off x="7885080" y="765000"/>
            <a:ext cx="811080" cy="1425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https://i.pinimg.com/564x/c5/d0/3d/c5d03dbd357db4e41e65b1fb9b2cd869.jpg"/>
          <p:cNvPicPr/>
          <p:nvPr/>
        </p:nvPicPr>
        <p:blipFill>
          <a:blip r:embed="rId5"/>
          <a:srcRect l="9373" t="0" r="10192" b="0"/>
          <a:stretch/>
        </p:blipFill>
        <p:spPr>
          <a:xfrm>
            <a:off x="7885080" y="5157720"/>
            <a:ext cx="811080" cy="1425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https://i.pinimg.com/564x/c5/d0/3d/c5d03dbd357db4e41e65b1fb9b2cd869.jpg"/>
          <p:cNvPicPr/>
          <p:nvPr/>
        </p:nvPicPr>
        <p:blipFill>
          <a:blip r:embed="rId6"/>
          <a:srcRect l="9373" t="0" r="10192" b="0"/>
          <a:stretch/>
        </p:blipFill>
        <p:spPr>
          <a:xfrm>
            <a:off x="3564000" y="692280"/>
            <a:ext cx="81108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Группа 13"/>
          <p:cNvGrpSpPr/>
          <p:nvPr/>
        </p:nvGrpSpPr>
        <p:grpSpPr>
          <a:xfrm>
            <a:off x="0" y="-360"/>
            <a:ext cx="8999640" cy="2205000"/>
            <a:chOff x="0" y="-360"/>
            <a:chExt cx="8999640" cy="2205000"/>
          </a:xfrm>
        </p:grpSpPr>
        <p:pic>
          <p:nvPicPr>
            <p:cNvPr id="147" name="Picture 7" descr="G:\01. Сайт .Архив\Клипарт\рамки\53b1e9c0a4afc17a5769b82befc89d6c.jpg"/>
            <p:cNvPicPr/>
            <p:nvPr/>
          </p:nvPicPr>
          <p:blipFill>
            <a:blip r:embed="rId1"/>
            <a:stretch/>
          </p:blipFill>
          <p:spPr>
            <a:xfrm rot="16200000">
              <a:off x="1147320" y="-1147680"/>
              <a:ext cx="2205000" cy="45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2"/>
            <p:cNvSpPr/>
            <p:nvPr/>
          </p:nvSpPr>
          <p:spPr>
            <a:xfrm>
              <a:off x="467280" y="188640"/>
              <a:ext cx="367236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Тетрад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для рабо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по окружающему мир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учени__  2 класса « А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ГБОУ школы № 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Picture 3" descr="G:\01. Сайт .Архив\Клипарт\шаблоны для рабочих листов\3211c8d35978740c20329cbd3a6281c7.jpg"/>
            <p:cNvPicPr/>
            <p:nvPr/>
          </p:nvPicPr>
          <p:blipFill>
            <a:blip r:embed="rId2"/>
            <a:stretch/>
          </p:blipFill>
          <p:spPr>
            <a:xfrm>
              <a:off x="251280" y="126900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4" descr="G:\01. Сайт .Архив\Клипарт\шаблоны для рабочих листов\735448e12310310368dd6ff6b45ff636.png"/>
            <p:cNvPicPr/>
            <p:nvPr/>
          </p:nvPicPr>
          <p:blipFill>
            <a:blip r:embed="rId3"/>
            <a:stretch/>
          </p:blipFill>
          <p:spPr>
            <a:xfrm flipH="1">
              <a:off x="3491640" y="260640"/>
              <a:ext cx="720000" cy="68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7" descr="G:\01. Сайт .Архив\Клипарт\рамки\53b1e9c0a4afc17a5769b82befc89d6c.jpg"/>
            <p:cNvPicPr/>
            <p:nvPr/>
          </p:nvPicPr>
          <p:blipFill>
            <a:blip r:embed="rId4"/>
            <a:stretch/>
          </p:blipFill>
          <p:spPr>
            <a:xfrm rot="16200000">
              <a:off x="5647320" y="-1147680"/>
              <a:ext cx="2205000" cy="449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Box 10"/>
            <p:cNvSpPr/>
            <p:nvPr/>
          </p:nvSpPr>
          <p:spPr>
            <a:xfrm>
              <a:off x="4967280" y="188640"/>
              <a:ext cx="367236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Тетрад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для рабо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по окружающему мир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учени__  2 класса « А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ГБОУ школы № 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3" descr="G:\01. Сайт .Архив\Клипарт\шаблоны для рабочих листов\3211c8d35978740c20329cbd3a6281c7.jpg"/>
            <p:cNvPicPr/>
            <p:nvPr/>
          </p:nvPicPr>
          <p:blipFill>
            <a:blip r:embed="rId5"/>
            <a:stretch/>
          </p:blipFill>
          <p:spPr>
            <a:xfrm>
              <a:off x="4751280" y="126900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4" descr="G:\01. Сайт .Архив\Клипарт\шаблоны для рабочих листов\735448e12310310368dd6ff6b45ff636.png"/>
            <p:cNvPicPr/>
            <p:nvPr/>
          </p:nvPicPr>
          <p:blipFill>
            <a:blip r:embed="rId6"/>
            <a:stretch/>
          </p:blipFill>
          <p:spPr>
            <a:xfrm flipH="1">
              <a:off x="7991640" y="260640"/>
              <a:ext cx="720000" cy="68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Группа 14"/>
          <p:cNvGrpSpPr/>
          <p:nvPr/>
        </p:nvGrpSpPr>
        <p:grpSpPr>
          <a:xfrm>
            <a:off x="0" y="4652640"/>
            <a:ext cx="8999640" cy="2205000"/>
            <a:chOff x="0" y="4652640"/>
            <a:chExt cx="8999640" cy="2205000"/>
          </a:xfrm>
        </p:grpSpPr>
        <p:pic>
          <p:nvPicPr>
            <p:cNvPr id="156" name="Picture 7" descr="G:\01. Сайт .Архив\Клипарт\рамки\53b1e9c0a4afc17a5769b82befc89d6c.jpg"/>
            <p:cNvPicPr/>
            <p:nvPr/>
          </p:nvPicPr>
          <p:blipFill>
            <a:blip r:embed="rId7"/>
            <a:stretch/>
          </p:blipFill>
          <p:spPr>
            <a:xfrm rot="16200000">
              <a:off x="1147320" y="3504960"/>
              <a:ext cx="2205000" cy="45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Box 16"/>
            <p:cNvSpPr/>
            <p:nvPr/>
          </p:nvSpPr>
          <p:spPr>
            <a:xfrm>
              <a:off x="467280" y="4841640"/>
              <a:ext cx="367236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Тетрад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для рабо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по окружающему мир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учени__  2 класса « А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ГБОУ школы № 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3" descr="G:\01. Сайт .Архив\Клипарт\шаблоны для рабочих листов\3211c8d35978740c20329cbd3a6281c7.jpg"/>
            <p:cNvPicPr/>
            <p:nvPr/>
          </p:nvPicPr>
          <p:blipFill>
            <a:blip r:embed="rId8"/>
            <a:stretch/>
          </p:blipFill>
          <p:spPr>
            <a:xfrm>
              <a:off x="251280" y="592200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4" descr="G:\01. Сайт .Архив\Клипарт\шаблоны для рабочих листов\735448e12310310368dd6ff6b45ff636.png"/>
            <p:cNvPicPr/>
            <p:nvPr/>
          </p:nvPicPr>
          <p:blipFill>
            <a:blip r:embed="rId9"/>
            <a:stretch/>
          </p:blipFill>
          <p:spPr>
            <a:xfrm flipH="1">
              <a:off x="3491640" y="4913640"/>
              <a:ext cx="720000" cy="68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7" descr="G:\01. Сайт .Архив\Клипарт\рамки\53b1e9c0a4afc17a5769b82befc89d6c.jpg"/>
            <p:cNvPicPr/>
            <p:nvPr/>
          </p:nvPicPr>
          <p:blipFill>
            <a:blip r:embed="rId10"/>
            <a:stretch/>
          </p:blipFill>
          <p:spPr>
            <a:xfrm rot="16200000">
              <a:off x="5647320" y="3505320"/>
              <a:ext cx="2205000" cy="449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Box 20"/>
            <p:cNvSpPr/>
            <p:nvPr/>
          </p:nvSpPr>
          <p:spPr>
            <a:xfrm>
              <a:off x="4967280" y="4841640"/>
              <a:ext cx="367236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Тетрад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для рабо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по окружающему мир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учени__  2 класса « А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ГБОУ школы № 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Picture 3" descr="G:\01. Сайт .Архив\Клипарт\шаблоны для рабочих листов\3211c8d35978740c20329cbd3a6281c7.jpg"/>
            <p:cNvPicPr/>
            <p:nvPr/>
          </p:nvPicPr>
          <p:blipFill>
            <a:blip r:embed="rId11"/>
            <a:stretch/>
          </p:blipFill>
          <p:spPr>
            <a:xfrm>
              <a:off x="4751280" y="592200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4" descr="G:\01. Сайт .Архив\Клипарт\шаблоны для рабочих листов\735448e12310310368dd6ff6b45ff636.png"/>
            <p:cNvPicPr/>
            <p:nvPr/>
          </p:nvPicPr>
          <p:blipFill>
            <a:blip r:embed="rId12"/>
            <a:stretch/>
          </p:blipFill>
          <p:spPr>
            <a:xfrm flipH="1">
              <a:off x="7991640" y="4913640"/>
              <a:ext cx="720000" cy="68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Группа 23"/>
          <p:cNvGrpSpPr/>
          <p:nvPr/>
        </p:nvGrpSpPr>
        <p:grpSpPr>
          <a:xfrm>
            <a:off x="0" y="2349000"/>
            <a:ext cx="8999640" cy="2205000"/>
            <a:chOff x="0" y="2349000"/>
            <a:chExt cx="8999640" cy="2205000"/>
          </a:xfrm>
        </p:grpSpPr>
        <p:pic>
          <p:nvPicPr>
            <p:cNvPr id="165" name="Picture 7" descr="G:\01. Сайт .Архив\Клипарт\рамки\53b1e9c0a4afc17a5769b82befc89d6c.jpg"/>
            <p:cNvPicPr/>
            <p:nvPr/>
          </p:nvPicPr>
          <p:blipFill>
            <a:blip r:embed="rId13"/>
            <a:stretch/>
          </p:blipFill>
          <p:spPr>
            <a:xfrm rot="16200000">
              <a:off x="1147320" y="1201320"/>
              <a:ext cx="2205000" cy="45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Box 25"/>
            <p:cNvSpPr/>
            <p:nvPr/>
          </p:nvSpPr>
          <p:spPr>
            <a:xfrm>
              <a:off x="467280" y="2538000"/>
              <a:ext cx="367236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Тетрад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для рабо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по окружающему мир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учени__  2 класса « А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ГБОУ школы № 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3" descr="G:\01. Сайт .Архив\Клипарт\шаблоны для рабочих листов\3211c8d35978740c20329cbd3a6281c7.jpg"/>
            <p:cNvPicPr/>
            <p:nvPr/>
          </p:nvPicPr>
          <p:blipFill>
            <a:blip r:embed="rId14"/>
            <a:stretch/>
          </p:blipFill>
          <p:spPr>
            <a:xfrm>
              <a:off x="251280" y="3618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4" descr="G:\01. Сайт .Архив\Клипарт\шаблоны для рабочих листов\735448e12310310368dd6ff6b45ff636.png"/>
            <p:cNvPicPr/>
            <p:nvPr/>
          </p:nvPicPr>
          <p:blipFill>
            <a:blip r:embed="rId15"/>
            <a:stretch/>
          </p:blipFill>
          <p:spPr>
            <a:xfrm flipH="1">
              <a:off x="3491640" y="2610000"/>
              <a:ext cx="720000" cy="68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7" descr="G:\01. Сайт .Архив\Клипарт\рамки\53b1e9c0a4afc17a5769b82befc89d6c.jpg"/>
            <p:cNvPicPr/>
            <p:nvPr/>
          </p:nvPicPr>
          <p:blipFill>
            <a:blip r:embed="rId16"/>
            <a:stretch/>
          </p:blipFill>
          <p:spPr>
            <a:xfrm rot="16200000">
              <a:off x="5647320" y="1201680"/>
              <a:ext cx="2205000" cy="449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Box 29"/>
            <p:cNvSpPr/>
            <p:nvPr/>
          </p:nvSpPr>
          <p:spPr>
            <a:xfrm>
              <a:off x="4967280" y="2538000"/>
              <a:ext cx="367236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Тетрад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для рабо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по окружающему мир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учени__  2 класса « А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ГБОУ школы № 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________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3" descr="G:\01. Сайт .Архив\Клипарт\шаблоны для рабочих листов\3211c8d35978740c20329cbd3a6281c7.jpg"/>
            <p:cNvPicPr/>
            <p:nvPr/>
          </p:nvPicPr>
          <p:blipFill>
            <a:blip r:embed="rId17"/>
            <a:stretch/>
          </p:blipFill>
          <p:spPr>
            <a:xfrm>
              <a:off x="4751280" y="3618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4" descr="G:\01. Сайт .Архив\Клипарт\шаблоны для рабочих листов\735448e12310310368dd6ff6b45ff636.png"/>
            <p:cNvPicPr/>
            <p:nvPr/>
          </p:nvPicPr>
          <p:blipFill>
            <a:blip r:embed="rId18"/>
            <a:stretch/>
          </p:blipFill>
          <p:spPr>
            <a:xfrm flipH="1">
              <a:off x="7991640" y="2610000"/>
              <a:ext cx="720000" cy="689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G:\01. Сайт .Архив\Клипарт\рамки\53b1e9c0a4afc17a5769b82befc89d6c.jpg"/>
          <p:cNvPicPr/>
          <p:nvPr/>
        </p:nvPicPr>
        <p:blipFill>
          <a:blip r:embed="rId1"/>
          <a:stretch/>
        </p:blipFill>
        <p:spPr>
          <a:xfrm>
            <a:off x="0" y="0"/>
            <a:ext cx="4500720" cy="22050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3"/>
          <p:cNvSpPr/>
          <p:nvPr/>
        </p:nvSpPr>
        <p:spPr>
          <a:xfrm>
            <a:off x="250920" y="115920"/>
            <a:ext cx="3673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 окружающему ми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ени__  2 класса « 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БОУ школы № 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G:\01. Сайт .Архив\Клипарт\рамки\53b1e9c0a4afc17a5769b82befc89d6c.jpg"/>
          <p:cNvPicPr/>
          <p:nvPr/>
        </p:nvPicPr>
        <p:blipFill>
          <a:blip r:embed="rId2"/>
          <a:stretch/>
        </p:blipFill>
        <p:spPr>
          <a:xfrm>
            <a:off x="4500720" y="0"/>
            <a:ext cx="4498920" cy="2205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7"/>
          <p:cNvSpPr/>
          <p:nvPr/>
        </p:nvSpPr>
        <p:spPr>
          <a:xfrm>
            <a:off x="4788000" y="189000"/>
            <a:ext cx="3671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 окружающему ми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ени__  2 класса « 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БОУ школы № 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https://i.pinimg.com/originals/b8/40/fd/b840fdb1c22b667cbc4cfeb3e110e7f1.jpg"/>
          <p:cNvPicPr/>
          <p:nvPr/>
        </p:nvPicPr>
        <p:blipFill>
          <a:blip r:embed="rId3"/>
          <a:stretch/>
        </p:blipFill>
        <p:spPr>
          <a:xfrm>
            <a:off x="8028000" y="549360"/>
            <a:ext cx="754200" cy="1350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https://i.pinimg.com/originals/b8/40/fd/b840fdb1c22b667cbc4cfeb3e110e7f1.jpg"/>
          <p:cNvPicPr/>
          <p:nvPr/>
        </p:nvPicPr>
        <p:blipFill>
          <a:blip r:embed="rId4"/>
          <a:stretch/>
        </p:blipFill>
        <p:spPr>
          <a:xfrm>
            <a:off x="3419640" y="549360"/>
            <a:ext cx="792000" cy="1350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G:\01. Сайт .Архив\Клипарт\шаблоны для рабочих листов\8ad8829702a7d56449a19a09f07d5063.jpg"/>
          <p:cNvPicPr/>
          <p:nvPr/>
        </p:nvPicPr>
        <p:blipFill>
          <a:blip r:embed="rId5"/>
          <a:stretch/>
        </p:blipFill>
        <p:spPr>
          <a:xfrm>
            <a:off x="250920" y="189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G:\01. Сайт .Архив\Клипарт\шаблоны для рабочих листов\8ad8829702a7d56449a19a09f07d5063.jpg"/>
          <p:cNvPicPr/>
          <p:nvPr/>
        </p:nvPicPr>
        <p:blipFill>
          <a:blip r:embed="rId6"/>
          <a:stretch/>
        </p:blipFill>
        <p:spPr>
          <a:xfrm>
            <a:off x="4788000" y="1159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G:\01. Сайт .Архив\Клипарт\рамки\53b1e9c0a4afc17a5769b82befc89d6c.jpg"/>
          <p:cNvPicPr/>
          <p:nvPr/>
        </p:nvPicPr>
        <p:blipFill>
          <a:blip r:embed="rId7"/>
          <a:stretch/>
        </p:blipFill>
        <p:spPr>
          <a:xfrm>
            <a:off x="0" y="4653000"/>
            <a:ext cx="4500720" cy="22050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7"/>
          <p:cNvSpPr/>
          <p:nvPr/>
        </p:nvSpPr>
        <p:spPr>
          <a:xfrm>
            <a:off x="250920" y="4770360"/>
            <a:ext cx="3673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 окружающему ми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ени__  2 класса « 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БОУ школы № 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G:\01. Сайт .Архив\Клипарт\рамки\53b1e9c0a4afc17a5769b82befc89d6c.jpg"/>
          <p:cNvPicPr/>
          <p:nvPr/>
        </p:nvPicPr>
        <p:blipFill>
          <a:blip r:embed="rId8"/>
          <a:stretch/>
        </p:blipFill>
        <p:spPr>
          <a:xfrm>
            <a:off x="4500720" y="4653000"/>
            <a:ext cx="4498920" cy="22050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9"/>
          <p:cNvSpPr/>
          <p:nvPr/>
        </p:nvSpPr>
        <p:spPr>
          <a:xfrm>
            <a:off x="4788000" y="4842000"/>
            <a:ext cx="3671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 окружающему ми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ени__  2 класса « 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БОУ школы № 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https://i.pinimg.com/originals/b8/40/fd/b840fdb1c22b667cbc4cfeb3e110e7f1.jpg"/>
          <p:cNvPicPr/>
          <p:nvPr/>
        </p:nvPicPr>
        <p:blipFill>
          <a:blip r:embed="rId9"/>
          <a:stretch/>
        </p:blipFill>
        <p:spPr>
          <a:xfrm>
            <a:off x="8028000" y="5202360"/>
            <a:ext cx="754200" cy="1350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https://i.pinimg.com/originals/b8/40/fd/b840fdb1c22b667cbc4cfeb3e110e7f1.jpg"/>
          <p:cNvPicPr/>
          <p:nvPr/>
        </p:nvPicPr>
        <p:blipFill>
          <a:blip r:embed="rId10"/>
          <a:stretch/>
        </p:blipFill>
        <p:spPr>
          <a:xfrm>
            <a:off x="3419640" y="5202360"/>
            <a:ext cx="792000" cy="1350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G:\01. Сайт .Архив\Клипарт\шаблоны для рабочих листов\8ad8829702a7d56449a19a09f07d5063.jpg"/>
          <p:cNvPicPr/>
          <p:nvPr/>
        </p:nvPicPr>
        <p:blipFill>
          <a:blip r:embed="rId11"/>
          <a:stretch/>
        </p:blipFill>
        <p:spPr>
          <a:xfrm>
            <a:off x="250920" y="4842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G:\01. Сайт .Архив\Клипарт\шаблоны для рабочих листов\8ad8829702a7d56449a19a09f07d5063.jpg"/>
          <p:cNvPicPr/>
          <p:nvPr/>
        </p:nvPicPr>
        <p:blipFill>
          <a:blip r:embed="rId12"/>
          <a:stretch/>
        </p:blipFill>
        <p:spPr>
          <a:xfrm>
            <a:off x="4788000" y="4770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G:\01. Сайт .Архив\Клипарт\рамки\53b1e9c0a4afc17a5769b82befc89d6c.jpg"/>
          <p:cNvPicPr/>
          <p:nvPr/>
        </p:nvPicPr>
        <p:blipFill>
          <a:blip r:embed="rId13"/>
          <a:stretch/>
        </p:blipFill>
        <p:spPr>
          <a:xfrm>
            <a:off x="0" y="2349360"/>
            <a:ext cx="4500720" cy="22050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26"/>
          <p:cNvSpPr/>
          <p:nvPr/>
        </p:nvSpPr>
        <p:spPr>
          <a:xfrm>
            <a:off x="250920" y="2465280"/>
            <a:ext cx="3673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 окружающему ми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ени__  2 класса « 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БОУ школы № 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G:\01. Сайт .Архив\Клипарт\рамки\53b1e9c0a4afc17a5769b82befc89d6c.jpg"/>
          <p:cNvPicPr/>
          <p:nvPr/>
        </p:nvPicPr>
        <p:blipFill>
          <a:blip r:embed="rId14"/>
          <a:stretch/>
        </p:blipFill>
        <p:spPr>
          <a:xfrm>
            <a:off x="4500720" y="2349360"/>
            <a:ext cx="4498920" cy="22050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8"/>
          <p:cNvSpPr/>
          <p:nvPr/>
        </p:nvSpPr>
        <p:spPr>
          <a:xfrm>
            <a:off x="4788000" y="2536920"/>
            <a:ext cx="3671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 окружающему ми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ени__  2 класса « 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БОУ школы № 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https://i.pinimg.com/originals/b8/40/fd/b840fdb1c22b667cbc4cfeb3e110e7f1.jpg"/>
          <p:cNvPicPr/>
          <p:nvPr/>
        </p:nvPicPr>
        <p:blipFill>
          <a:blip r:embed="rId15"/>
          <a:stretch/>
        </p:blipFill>
        <p:spPr>
          <a:xfrm>
            <a:off x="8028000" y="2897280"/>
            <a:ext cx="754200" cy="1350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ttps://i.pinimg.com/originals/b8/40/fd/b840fdb1c22b667cbc4cfeb3e110e7f1.jpg"/>
          <p:cNvPicPr/>
          <p:nvPr/>
        </p:nvPicPr>
        <p:blipFill>
          <a:blip r:embed="rId16"/>
          <a:stretch/>
        </p:blipFill>
        <p:spPr>
          <a:xfrm>
            <a:off x="3419640" y="2897280"/>
            <a:ext cx="792000" cy="1350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G:\01. Сайт .Архив\Клипарт\шаблоны для рабочих листов\8ad8829702a7d56449a19a09f07d5063.jpg"/>
          <p:cNvPicPr/>
          <p:nvPr/>
        </p:nvPicPr>
        <p:blipFill>
          <a:blip r:embed="rId17"/>
          <a:stretch/>
        </p:blipFill>
        <p:spPr>
          <a:xfrm>
            <a:off x="250920" y="25369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G:\01. Сайт .Архив\Клипарт\шаблоны для рабочих листов\8ad8829702a7d56449a19a09f07d5063.jpg"/>
          <p:cNvPicPr/>
          <p:nvPr/>
        </p:nvPicPr>
        <p:blipFill>
          <a:blip r:embed="rId18"/>
          <a:stretch/>
        </p:blipFill>
        <p:spPr>
          <a:xfrm>
            <a:off x="4788000" y="246528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Группа 1"/>
          <p:cNvGrpSpPr/>
          <p:nvPr/>
        </p:nvGrpSpPr>
        <p:grpSpPr>
          <a:xfrm>
            <a:off x="179280" y="260280"/>
            <a:ext cx="4186440" cy="5689800"/>
            <a:chOff x="179280" y="260280"/>
            <a:chExt cx="4186440" cy="5689800"/>
          </a:xfrm>
        </p:grpSpPr>
        <p:pic>
          <p:nvPicPr>
            <p:cNvPr id="198" name="Picture 2" descr="http://www.clipartster.com/images/72/brush-class-classroom-clipart-paint-brush-school-school-supplies-0YlTts-clipart.png"/>
            <p:cNvPicPr/>
            <p:nvPr/>
          </p:nvPicPr>
          <p:blipFill>
            <a:blip r:embed="rId1"/>
            <a:stretch/>
          </p:blipFill>
          <p:spPr>
            <a:xfrm>
              <a:off x="179280" y="260280"/>
              <a:ext cx="4186440" cy="27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8" descr="http://www.baltana.com/files/wallpapers-2/Blue-Powerpoint-Background-Pics-06719.jpg"/>
            <p:cNvPicPr/>
            <p:nvPr/>
          </p:nvPicPr>
          <p:blipFill>
            <a:blip r:embed="rId2"/>
            <a:stretch/>
          </p:blipFill>
          <p:spPr>
            <a:xfrm>
              <a:off x="467280" y="3357360"/>
              <a:ext cx="3673440" cy="259272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sp>
          <p:nvSpPr>
            <p:cNvPr id="200" name="TextBox 4"/>
            <p:cNvSpPr/>
            <p:nvPr/>
          </p:nvSpPr>
          <p:spPr>
            <a:xfrm>
              <a:off x="707760" y="620280"/>
              <a:ext cx="29635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етрад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ля рабо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о математи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чени___ 3  класса «А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БОУ школы № 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_________________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_________________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5"/>
            <p:cNvSpPr/>
            <p:nvPr/>
          </p:nvSpPr>
          <p:spPr>
            <a:xfrm>
              <a:off x="635760" y="3789360"/>
              <a:ext cx="29635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етрад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ля рабо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о русскому язы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чени___ 3  класса «А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БОУ школы № 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_________________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_________________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Группа 6"/>
          <p:cNvGrpSpPr/>
          <p:nvPr/>
        </p:nvGrpSpPr>
        <p:grpSpPr>
          <a:xfrm>
            <a:off x="4643280" y="260280"/>
            <a:ext cx="4186440" cy="5689800"/>
            <a:chOff x="4643280" y="260280"/>
            <a:chExt cx="4186440" cy="5689800"/>
          </a:xfrm>
        </p:grpSpPr>
        <p:pic>
          <p:nvPicPr>
            <p:cNvPr id="203" name="Picture 2" descr="http://www.clipartster.com/images/72/brush-class-classroom-clipart-paint-brush-school-school-supplies-0YlTts-clipart.png"/>
            <p:cNvPicPr/>
            <p:nvPr/>
          </p:nvPicPr>
          <p:blipFill>
            <a:blip r:embed="rId3"/>
            <a:stretch/>
          </p:blipFill>
          <p:spPr>
            <a:xfrm>
              <a:off x="4643280" y="260280"/>
              <a:ext cx="4186440" cy="27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8" descr="http://www.baltana.com/files/wallpapers-2/Blue-Powerpoint-Background-Pics-06719.jpg"/>
            <p:cNvPicPr/>
            <p:nvPr/>
          </p:nvPicPr>
          <p:blipFill>
            <a:blip r:embed="rId4"/>
            <a:stretch/>
          </p:blipFill>
          <p:spPr>
            <a:xfrm>
              <a:off x="4931280" y="3357360"/>
              <a:ext cx="3673440" cy="259272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sp>
          <p:nvSpPr>
            <p:cNvPr id="205" name="TextBox 9"/>
            <p:cNvSpPr/>
            <p:nvPr/>
          </p:nvSpPr>
          <p:spPr>
            <a:xfrm>
              <a:off x="5171760" y="620280"/>
              <a:ext cx="29635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етрад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ля рабо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о математи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чени___ 3  класса «А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БОУ школы № 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_________________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_________________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10"/>
            <p:cNvSpPr/>
            <p:nvPr/>
          </p:nvSpPr>
          <p:spPr>
            <a:xfrm>
              <a:off x="5099760" y="3789360"/>
              <a:ext cx="29635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етрад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ля рабо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о русскому язы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чени___ 3  класса «А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БОУ школы № 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_________________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_________________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Прямоугольник 11"/>
          <p:cNvSpPr/>
          <p:nvPr/>
        </p:nvSpPr>
        <p:spPr>
          <a:xfrm>
            <a:off x="3363120" y="64882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vk.com/shkola_a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29T02:59:26Z</dcterms:created>
  <dc:creator>Елена</dc:creator>
  <dc:description/>
  <dc:language>en-US</dc:language>
  <cp:lastModifiedBy>Елена Берюхова</cp:lastModifiedBy>
  <dcterms:modified xsi:type="dcterms:W3CDTF">2024-08-29T18:00:41Z</dcterms:modified>
  <cp:revision>40</cp:revision>
  <dc:subject/>
  <dc:title>Слайд 1</dc:title>
</cp:coreProperties>
</file>